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drumroll.wav" ContentType="audio/x-wav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525000" cy="7239000"/>
  <p:notesSz cx="66389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A4A8-8475-44A8-B7E8-D857D2926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8096400" cy="1206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4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4240" y="2090520"/>
            <a:ext cx="8096400" cy="207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4240" y="4359240"/>
            <a:ext cx="8096400" cy="207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058F-A8AC-4586-B87C-716FC317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8096400" cy="1206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4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4240" y="2090520"/>
            <a:ext cx="3951000" cy="207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63240" y="2090520"/>
            <a:ext cx="3951000" cy="207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4240" y="4359240"/>
            <a:ext cx="3951000" cy="207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63240" y="4359240"/>
            <a:ext cx="3951000" cy="207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3976-625B-4555-8547-75FF2CA45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8096400" cy="1206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4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4240" y="2090520"/>
            <a:ext cx="2606760" cy="207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51680" y="2090520"/>
            <a:ext cx="2606760" cy="207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9120" y="2090520"/>
            <a:ext cx="2606760" cy="207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4240" y="4359240"/>
            <a:ext cx="2606760" cy="207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51680" y="4359240"/>
            <a:ext cx="2606760" cy="207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9120" y="4359240"/>
            <a:ext cx="2606760" cy="207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BB7C-9D8A-4A2B-840D-2FD4B44E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8096400" cy="1206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4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4240" y="2090520"/>
            <a:ext cx="8096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BDF8-1BA6-4435-9BA4-7430F064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8096400" cy="1206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4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4240" y="2090520"/>
            <a:ext cx="8096400" cy="4343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0564-4D6E-4994-ACCE-B5D3DC99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8096400" cy="1206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4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4240" y="2090520"/>
            <a:ext cx="3951000" cy="4343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63240" y="2090520"/>
            <a:ext cx="3951000" cy="4343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F89F-F6AE-4F80-B4C8-1D3722D7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8096400" cy="1206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4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23C2-51B6-4DD5-9567-9519A3BE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4240" y="642600"/>
            <a:ext cx="8096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5586-52DC-43D0-8AA8-9F3E4FCF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8096400" cy="1206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4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4240" y="2090520"/>
            <a:ext cx="3951000" cy="207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63240" y="2090520"/>
            <a:ext cx="3951000" cy="4343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4240" y="4359240"/>
            <a:ext cx="3951000" cy="207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7FE0-5BE4-47F8-A0A0-25339290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8096400" cy="1206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4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4240" y="2090520"/>
            <a:ext cx="3951000" cy="4343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63240" y="2090520"/>
            <a:ext cx="3951000" cy="207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63240" y="4359240"/>
            <a:ext cx="3951000" cy="207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7C63-18CF-4C6A-B60B-5906A6F6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8096400" cy="1206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4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4240" y="2090520"/>
            <a:ext cx="3951000" cy="207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63240" y="2090520"/>
            <a:ext cx="3951000" cy="207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4240" y="4359240"/>
            <a:ext cx="8096400" cy="207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416D-FE83-469A-8F91-7EE34843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8096400" cy="1206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46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4240" y="2090520"/>
            <a:ext cx="8096400" cy="4343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357120" indent="-357120">
              <a:spcBef>
                <a:spcPts val="726"/>
              </a:spcBef>
              <a:buClr>
                <a:srgbClr val="3333cc"/>
              </a:buClr>
              <a:buFont typeface="Times New Roman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  <a:p>
            <a:pPr lvl="1" marL="773280" indent="-297000">
              <a:spcBef>
                <a:spcPts val="726"/>
              </a:spcBef>
              <a:buClr>
                <a:srgbClr val="3333cc"/>
              </a:buClr>
              <a:buFont typeface="Times New Roman"/>
              <a:buChar char="–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  <a:p>
            <a:pPr lvl="2" marL="1190520" indent="-23796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  <a:p>
            <a:pPr lvl="3" marL="1627200" indent="-23796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  <a:p>
            <a:pPr lvl="4" marL="2063880" indent="-23832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  <a:p>
            <a:pPr lvl="5" marL="2063880" indent="-23832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  <a:p>
            <a:pPr lvl="6" marL="2063880" indent="-23832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3880" y="6595560"/>
            <a:ext cx="1984680" cy="482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lstStyle>
            <a:lvl1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54400" y="6595560"/>
            <a:ext cx="3016080" cy="482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lstStyle>
            <a:lvl1pPr indent="0" algn="ctr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6320" y="6595560"/>
            <a:ext cx="1984320" cy="482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MEHLOGK_3" descr=""/>
          <p:cNvPicPr/>
          <p:nvPr/>
        </p:nvPicPr>
        <p:blipFill>
          <a:blip r:embed="rId3"/>
          <a:stretch/>
        </p:blipFill>
        <p:spPr>
          <a:xfrm>
            <a:off x="533520" y="6400800"/>
            <a:ext cx="214308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34680" y="1688760"/>
            <a:ext cx="8096040" cy="4343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57120" indent="0" algn="ctr">
              <a:spcBef>
                <a:spcPts val="2075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8300" spc="-1" strike="noStrike">
                <a:solidFill>
                  <a:srgbClr val="3333cc"/>
                </a:solidFill>
                <a:latin typeface="Times New Roman"/>
              </a:rPr>
              <a:t>MEHIB</a:t>
            </a:r>
            <a:endParaRPr b="1" lang="en-US" sz="83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 algn="ctr">
              <a:spcBef>
                <a:spcPts val="726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 algn="ctr">
              <a:spcBef>
                <a:spcPts val="1250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5000" spc="-1" strike="noStrike" baseline="-2000">
                <a:solidFill>
                  <a:srgbClr val="3333cc"/>
                </a:solidFill>
                <a:latin typeface="Times New Roman"/>
              </a:rPr>
              <a:t>MAGYAR  EXPORTHITEL BIZTOSÍTÓ RT. </a:t>
            </a:r>
            <a:endParaRPr b="1" lang="en-US" sz="50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 algn="ctr">
              <a:spcBef>
                <a:spcPts val="726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>
              <a:spcBef>
                <a:spcPts val="726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DEEC-9577-42D8-9DE6-8852AD29A7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90560" y="576360"/>
            <a:ext cx="778500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spcBef>
                <a:spcPts val="726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SZÁLLÍTÓI HITEL BIZTOSÍTÁS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76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3333cc"/>
                </a:solidFill>
                <a:latin typeface="Times New Roman"/>
              </a:rPr>
              <a:t>AZ EXPORTŐR HITELBEN TÖRTÉNŐ ÉRTÉKESÍTÉSEIRE NYÚJT FEDEZETET A KERESKEDELMI SZERZŐDÉS TELJESÍTÉS UTÁNI HITELEZÉSI IDŐSZAKR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76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2362320"/>
          <a:ext cx="7740720" cy="338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362320"/>
                    <a:ext cx="774072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50A2-3FFE-495D-8352-02C01E6BF6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96400" cy="685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hu-HU" sz="4600" spc="-1" strike="noStrike">
                <a:solidFill>
                  <a:srgbClr val="3333cc"/>
                </a:solidFill>
                <a:latin typeface="Times New Roman"/>
              </a:rPr>
              <a:t>Országkockázati minősítés</a:t>
            </a:r>
            <a:endParaRPr b="0" lang="en-US" sz="4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143000"/>
            <a:ext cx="8076960" cy="47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3333cc"/>
                </a:solidFill>
                <a:latin typeface="Times New Roman CE"/>
              </a:rPr>
              <a:t>A világ országainak minősítése félévenként politikai és transzferkockázat szempontjábó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Times New Roman CE"/>
              </a:rPr>
              <a:t>Az országok rangsorolása országkockázat szeri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Times New Roman CE"/>
              </a:rPr>
              <a:t>Biztosítható kategóriák : 1 – 7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Times New Roman CE"/>
              </a:rPr>
              <a:t>Nem biztosítható kategória : 7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3333cc"/>
                </a:solidFill>
                <a:latin typeface="Times New Roman CE"/>
              </a:rPr>
              <a:t>A minősítés alapja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Times New Roman CE"/>
              <a:buAutoNum type="alphaU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3333cc"/>
                </a:solidFill>
                <a:latin typeface="Times New Roman CE"/>
              </a:rPr>
              <a:t> </a:t>
            </a:r>
            <a:r>
              <a:rPr b="1" lang="hu-HU" sz="1800" spc="-1" strike="noStrike">
                <a:solidFill>
                  <a:srgbClr val="3333cc"/>
                </a:solidFill>
                <a:latin typeface="Times New Roman CE"/>
              </a:rPr>
              <a:t>Nemzetközi hitelminősítő intézetek országkockázati besorolása és export-hitelbiztosítók értékelé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3333cc"/>
                </a:solidFill>
                <a:latin typeface="Times New Roman CE"/>
              </a:rPr>
              <a:t>Mehib minősítésében 70% részarányb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Times New Roman CE"/>
              <a:buAutoNum type="alphaUcPeriod" startAt="2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3333cc"/>
                </a:solidFill>
                <a:latin typeface="Times New Roman CE"/>
              </a:rPr>
              <a:t> </a:t>
            </a:r>
            <a:r>
              <a:rPr b="1" lang="hu-HU" sz="1800" spc="-1" strike="noStrike">
                <a:solidFill>
                  <a:srgbClr val="3333cc"/>
                </a:solidFill>
                <a:latin typeface="Times New Roman CE"/>
              </a:rPr>
              <a:t>Kétoldalú kapcsolatok értékelé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3333cc"/>
                </a:solidFill>
                <a:latin typeface="Times New Roman CE"/>
              </a:rPr>
              <a:t>Mehib minősítésében 30% részarányb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3992-58DA-40EC-AB80-1808855B61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14240" y="642600"/>
            <a:ext cx="8096400" cy="4505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marL="188280" indent="0" algn="ctr">
              <a:spcBef>
                <a:spcPts val="825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Times New Roman"/>
              </a:rPr>
              <a:t>BANKOK SZEREPE</a:t>
            </a:r>
            <a:r>
              <a:rPr b="1" lang="en-US" sz="33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1" lang="en-US" sz="3300" spc="-1" strike="noStrike">
              <a:solidFill>
                <a:srgbClr val="3333cc"/>
              </a:solidFill>
              <a:latin typeface="Times New Roman"/>
            </a:endParaRPr>
          </a:p>
          <a:p>
            <a:pPr marL="188280" indent="0">
              <a:spcBef>
                <a:spcPts val="476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1900" spc="-1" strike="noStrike">
              <a:solidFill>
                <a:srgbClr val="3333cc"/>
              </a:solidFill>
              <a:latin typeface="Times New Roman"/>
            </a:endParaRPr>
          </a:p>
          <a:p>
            <a:pPr marL="188280" indent="0">
              <a:spcBef>
                <a:spcPts val="5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EGY BANK SZÁMÁRA A BIZTOSÍTÁSI KÖTVÉNY HITELEZÉSI BIZTONSÁGOT, FEDEZETET  JELENT  HITELE  KIHELYEZÉSÉNÉL</a:t>
            </a:r>
            <a:endParaRPr b="1" lang="en-US" sz="2100" spc="-1" strike="noStrike">
              <a:solidFill>
                <a:srgbClr val="3333cc"/>
              </a:solidFill>
              <a:latin typeface="Times New Roman"/>
            </a:endParaRPr>
          </a:p>
          <a:p>
            <a:pPr marL="188280" indent="0">
              <a:spcBef>
                <a:spcPts val="476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1900" spc="-1" strike="noStrike">
              <a:solidFill>
                <a:srgbClr val="3333cc"/>
              </a:solidFill>
              <a:latin typeface="Times New Roman"/>
            </a:endParaRPr>
          </a:p>
          <a:p>
            <a:pPr marL="188280" indent="0">
              <a:spcBef>
                <a:spcPts val="5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* A BIZTOSÍTÁSI KÖTVÉNY A HITELT NYÚJTÓ BANKRA FORGATHATÓ (SZÁLLÍTÓI HITEL).</a:t>
            </a:r>
            <a:endParaRPr b="1" lang="en-US" sz="2100" spc="-1" strike="noStrike">
              <a:solidFill>
                <a:srgbClr val="3333cc"/>
              </a:solidFill>
              <a:latin typeface="Times New Roman"/>
            </a:endParaRPr>
          </a:p>
          <a:p>
            <a:pPr marL="188280" indent="0">
              <a:spcBef>
                <a:spcPts val="5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100" spc="-1" strike="noStrike">
              <a:solidFill>
                <a:srgbClr val="3333cc"/>
              </a:solidFill>
              <a:latin typeface="Times New Roman"/>
            </a:endParaRPr>
          </a:p>
          <a:p>
            <a:pPr marL="188280" indent="0">
              <a:spcBef>
                <a:spcPts val="5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A KÁRTÉRÍTÉS EBBEN AZ ESETBEN  A  BANKOT  ILLETI.</a:t>
            </a:r>
            <a:endParaRPr b="1" lang="en-US" sz="2100" spc="-1" strike="noStrike">
              <a:solidFill>
                <a:srgbClr val="3333cc"/>
              </a:solidFill>
              <a:latin typeface="Times New Roman"/>
            </a:endParaRPr>
          </a:p>
          <a:p>
            <a:pPr marL="188280" indent="0">
              <a:spcBef>
                <a:spcPts val="5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* A HITELT NYÚJTÓ BANK KÖZVETLENÜL BIZTOSÍTOTT LEHET (VEVŐHITEL).</a:t>
            </a:r>
            <a:endParaRPr b="1" lang="en-US" sz="21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E9AF-3038-4A86-891F-F9E613C7FE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46080" y="428760"/>
            <a:ext cx="81025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spcBef>
                <a:spcPts val="726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NEMZETKÖZI SZABVÁNYO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1, OECD KONSZENZUS  (EU  NORMATÍVA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AZ ÁLLAM ÁLTAL  HIVATALOSAN TÁMOGATOTT EXPORT (GARANCIA, RE/FINANSZÍROZÁS  ÉS EXPORTHITEL BIZTOSÍTÁS)  VALAMINT SEGÉLYEZÉS  FELTÉTELEIT SZABÁLYOZZA  </a:t>
            </a:r>
            <a:r>
              <a:rPr b="1" lang="en-US" sz="1600" spc="-1" strike="noStrike" u="sng">
                <a:solidFill>
                  <a:srgbClr val="3333cc"/>
                </a:solidFill>
                <a:uFillTx/>
                <a:latin typeface="Times New Roman"/>
              </a:rPr>
              <a:t>2  ÉVEN TÚLI HITELFUTAMIDŐ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 ESETÉB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19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 KONSZENZUSHOZ CSATLAKOZTAK: OECD ORSZÁGOK, FEJLETT IPARI ORSZÁG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 KONSZENZUS  </a:t>
            </a: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NEM  VONATKOZIK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 HADIIPARI CIKKEKRE ÉS MEZŐGAZDASÁGI  ÁRUKR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PECIÁLIS ÁGAZATI  MEGÁLLAPODÁSOK: ERŐMŰVEK, HAJÓK, ATOMERŐMŰVEK ÉS POLGÁRI LÉGISZÁLLÍTÁSI ESZKÖZÖK EXPORT TÁMOGATÁSÁR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33480" y="2590920"/>
          <a:ext cx="7867800" cy="1314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3480" y="2590920"/>
                    <a:ext cx="786780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2DFD-B062-4257-95C9-C0F878016B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70920" y="646200"/>
            <a:ext cx="6158880" cy="10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marL="357120" indent="-357120">
              <a:spcBef>
                <a:spcPts val="726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NEMZETKÖZI SZABVÁNYO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726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9360" y="1603440"/>
            <a:ext cx="863892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>
              <a:spcBef>
                <a:spcPts val="5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2, BERNI UNIÓS MEGÁLLAPODÁ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76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imes New Roman"/>
              </a:rPr>
              <a:t>AZ UNIÓ 1934-BEN ALAKULT, A NEMZETKÖZI EXPORTHITEL</a:t>
            </a:r>
            <a:br>
              <a:rPr sz="1900"/>
            </a:br>
            <a:r>
              <a:rPr b="1" lang="en-US" sz="1900" spc="-1" strike="noStrike">
                <a:solidFill>
                  <a:srgbClr val="3333cc"/>
                </a:solidFill>
                <a:latin typeface="Times New Roman"/>
              </a:rPr>
              <a:t>ÉS BERUHÁZÁS BIZTOSÍTÓK NEMZETKÖZI SZERVEZETE (48 TAG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76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76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imes New Roman"/>
              </a:rPr>
              <a:t>HITELFUTAMIDŐTŐL  FÜGGETLENÜL SZABÁLYOZZA  AZ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76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imes New Roman"/>
              </a:rPr>
              <a:t>EXPORTÖSZTÖNZÉS  ÁLTALÁNOS  FELTÉTELEIT.  EZEN  FELÜ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76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imes New Roman"/>
              </a:rPr>
              <a:t>SZAKMAILAG KOORDINÁLJA A HITELBIZTOSÍTÓK  TEVÉKENYSÉGÉ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76"/>
              </a:spcBef>
              <a:buClr>
                <a:srgbClr val="3333cc"/>
              </a:buClr>
              <a:buFont typeface="Times New Roman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1900" spc="-1" strike="noStrike">
                <a:solidFill>
                  <a:srgbClr val="3333cc"/>
                </a:solidFill>
                <a:latin typeface="Times New Roman"/>
              </a:rPr>
              <a:t>7 ÁRUCSO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76"/>
              </a:spcBef>
              <a:buClr>
                <a:srgbClr val="3333cc"/>
              </a:buClr>
              <a:buFont typeface="Times New Roman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1900" spc="-1" strike="noStrike">
                <a:solidFill>
                  <a:srgbClr val="3333cc"/>
                </a:solidFill>
                <a:latin typeface="Times New Roman"/>
              </a:rPr>
              <a:t>ÁGAZATI EGYEZMÉNYE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76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76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imes New Roman"/>
              </a:rPr>
              <a:t>JELENTÉSI KÖTELEZETTSÉGE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D31D-638A-42A2-AC00-7D4269B5A9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13880" y="642600"/>
            <a:ext cx="8315640" cy="5791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57120" indent="0" algn="ctr">
              <a:spcBef>
                <a:spcPts val="726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A HITELBIZTOSÍTÁS ELŐNYEINEK ÖSSZEFOGLALÁSA</a:t>
            </a: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17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17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>
              <a:spcBef>
                <a:spcPts val="5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* LEHETŐVÉ TESZI A CÉG FOLYAMATOS MŰKÖDÉSÉT</a:t>
            </a:r>
            <a:endParaRPr b="1" lang="en-US" sz="21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>
              <a:spcBef>
                <a:spcPts val="300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>
              <a:spcBef>
                <a:spcPts val="5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* MEGKÖNNYÍTI VÁLLALKOZÁS FINANSZÍROZÁSÁT</a:t>
            </a:r>
            <a:endParaRPr b="1" lang="en-US" sz="21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>
              <a:spcBef>
                <a:spcPts val="300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>
              <a:spcBef>
                <a:spcPts val="5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* SEGÍTSÉGÉVEL ELKERÜLHETŐK A KÁROK</a:t>
            </a:r>
            <a:endParaRPr b="1" lang="en-US" sz="21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>
              <a:spcBef>
                <a:spcPts val="300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>
              <a:spcBef>
                <a:spcPts val="5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* LEHETŐSÉGET NYÚJT ARRA, HOGY LEJÁRT KÖVETELÉSEK BEHAJTÁSÁRA PROFESSZIONÁLIS ÜGYNÖKSÉGET ALKALMAZHASSON</a:t>
            </a:r>
            <a:endParaRPr b="1" lang="en-US" sz="21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>
              <a:spcBef>
                <a:spcPts val="300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>
              <a:spcBef>
                <a:spcPts val="5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* FOLYAMATOS ADÓSMONITORING</a:t>
            </a:r>
            <a:endParaRPr b="1" lang="en-US" sz="21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>
              <a:spcBef>
                <a:spcPts val="476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19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>
              <a:spcBef>
                <a:spcPts val="476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1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834B-21F6-429D-B6E1-C6233D7D26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73000" y="401760"/>
            <a:ext cx="72723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MEHIB TEVÉKENYSÉGÉNEK FŐBB ADATA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7960" y="1608120"/>
            <a:ext cx="896940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marL="374760" indent="-374760">
              <a:spcBef>
                <a:spcPts val="476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hu-HU" sz="25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hu-H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hu-H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hu-HU" sz="1900" spc="-1" strike="noStrike">
                <a:solidFill>
                  <a:srgbClr val="3333cc"/>
                </a:solidFill>
                <a:latin typeface="Times New Roman"/>
              </a:rPr>
              <a:t>Adatok millió Ft-ba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524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hu-HU" sz="2100" spc="-1" strike="noStrike">
                <a:solidFill>
                  <a:srgbClr val="3333cc"/>
                </a:solidFill>
                <a:latin typeface="Times New Roman"/>
              </a:rPr>
              <a:t>1997        1998       1999      2000       2001        200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524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524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hu-HU" sz="2100" spc="-1" strike="noStrike">
                <a:solidFill>
                  <a:srgbClr val="3333cc"/>
                </a:solidFill>
                <a:latin typeface="Times New Roman"/>
              </a:rPr>
              <a:t>FEDEZETBEVÉTEL  46.735    50. 159   60.741    93.141    62.690    101.45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524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524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hu-HU" sz="2100" spc="-1" strike="noStrike">
                <a:solidFill>
                  <a:srgbClr val="3333cc"/>
                </a:solidFill>
                <a:latin typeface="Times New Roman"/>
              </a:rPr>
              <a:t>DÍJBEVÉTEL                  521           729        619      1.009         948           75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524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524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hu-HU" sz="2100" spc="-1" strike="noStrike">
                <a:solidFill>
                  <a:srgbClr val="3333cc"/>
                </a:solidFill>
                <a:latin typeface="Times New Roman"/>
              </a:rPr>
              <a:t>KÁRFIZETÉS                   32            189     2.802     1.622      1.150   </a:t>
            </a:r>
            <a:r>
              <a:rPr b="1" lang="hu-HU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hu-HU" sz="2100" spc="-1" strike="noStrike">
                <a:solidFill>
                  <a:srgbClr val="3333cc"/>
                </a:solidFill>
                <a:latin typeface="Times New Roman"/>
              </a:rPr>
              <a:t>    53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524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524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hu-HU" sz="2100" spc="-1" strike="noStrike">
                <a:solidFill>
                  <a:srgbClr val="3333cc"/>
                </a:solidFill>
                <a:latin typeface="Times New Roman"/>
              </a:rPr>
              <a:t>KÁRMEGTÉRÜLÉS      738            427        427        330      1.026           86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9164-EAD6-4127-9144-E4FFBD2289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8096400" cy="1206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Times New Roman"/>
              </a:rPr>
              <a:t>MI A HITELBIZTOSÍTÁS ?</a:t>
            </a:r>
            <a:endParaRPr b="0" lang="en-US" sz="37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5880" y="1981080"/>
            <a:ext cx="806256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marL="357120" indent="-357120" algn="ctr">
              <a:spcBef>
                <a:spcPts val="624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BIZTOSÍTÉK ARRA, HOGY HA AZ ADOTT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ctr">
              <a:spcBef>
                <a:spcPts val="624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HITELÜGYLET ADÓSA ESEDÉKESSÉGKOR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ctr">
              <a:spcBef>
                <a:spcPts val="624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NEM  VAGY RÉSZLEGESEN TELJESÍT (FIZET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2063880" indent="-2383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ctr">
              <a:spcBef>
                <a:spcPts val="624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A JOGOSULT MÉGIS HOZZÁJUSSON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ctr">
              <a:spcBef>
                <a:spcPts val="624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KÖVETELÉSÉHEZ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ctr">
              <a:spcBef>
                <a:spcPts val="30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ctr">
              <a:spcBef>
                <a:spcPts val="624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54A0-7B76-4E50-9F8F-ABEEDC2D4B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714240" y="482760"/>
            <a:ext cx="8096400" cy="5790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57120" indent="0" algn="ctr">
              <a:spcBef>
                <a:spcPts val="6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A HITELEZÉS KOCKÁZATAI </a:t>
            </a:r>
            <a:endParaRPr b="1" lang="en-US" sz="25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 algn="ctr">
              <a:spcBef>
                <a:spcPts val="37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15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 algn="just">
              <a:spcBef>
                <a:spcPts val="425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1, BELFÖLDI (PL. EXPORTŐR TELJESÍTÉSI KOCKÁZAT)</a:t>
            </a:r>
            <a:endParaRPr b="1" lang="en-US" sz="17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 algn="just">
              <a:spcBef>
                <a:spcPts val="425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2, KÜLFÖLDI</a:t>
            </a:r>
            <a:endParaRPr b="1" lang="en-US" sz="17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 algn="just">
              <a:spcBef>
                <a:spcPts val="425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17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 algn="just">
              <a:spcBef>
                <a:spcPts val="425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*  POLITIKAI KOCKÁZAT:   </a:t>
            </a:r>
            <a:endParaRPr b="1" lang="en-US" sz="17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 algn="just">
              <a:spcBef>
                <a:spcPts val="425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3333cc"/>
                </a:solidFill>
                <a:latin typeface="Times New Roman"/>
              </a:rPr>
              <a:t>/EXPORTÜGYLETBEN RÉSZTVEVŐ FELEKEN KÍVÜLÁLLÓ TÉNYEZŐK, </a:t>
            </a:r>
            <a:r>
              <a:rPr b="0" lang="en-US" sz="1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3333cc"/>
                </a:solidFill>
                <a:latin typeface="Times New Roman"/>
              </a:rPr>
              <a:t>MELYEKRE A FELEKNEK NINCS RÁHATÁSUK/</a:t>
            </a:r>
            <a:endParaRPr b="1" lang="en-US" sz="17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 algn="just">
              <a:spcBef>
                <a:spcPts val="300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 algn="just">
              <a:spcBef>
                <a:spcPts val="425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KLASSZIKUS: TULAJDONJOGOT SÉRTŐ INTÉZMÉNYEK</a:t>
            </a:r>
            <a:endParaRPr b="1" lang="en-US" sz="17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 algn="just">
              <a:spcBef>
                <a:spcPts val="425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MODERN: ÁLLAMI INTÉZKEDÉSEK, MELYEK KÖVETKEZTÉBEN AZ </a:t>
            </a: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        ÜZLETI TEVÉKENYSÉG NEM FOLYTATHATÓ</a:t>
            </a:r>
            <a:endParaRPr b="1" lang="en-US" sz="17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 algn="just">
              <a:spcBef>
                <a:spcPts val="425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17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 algn="just">
              <a:spcBef>
                <a:spcPts val="425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*  KERESKEDELMI KOCKÁZAT:   </a:t>
            </a:r>
            <a:endParaRPr b="1" lang="en-US" sz="17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 algn="just">
              <a:spcBef>
                <a:spcPts val="425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3333cc"/>
                </a:solidFill>
                <a:latin typeface="Times New Roman"/>
              </a:rPr>
              <a:t>/EXPORTÜGYLETBEN RÉSZTVEVŐ FELEKTŐL FÜGGŐ TÉNYEZŐK , </a:t>
            </a:r>
            <a:r>
              <a:rPr b="0" lang="en-US" sz="1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3333cc"/>
                </a:solidFill>
                <a:latin typeface="Times New Roman"/>
              </a:rPr>
              <a:t>MELYEK ALAKULÁSÁRA A FELEK HATÁSSAL BÍRNAK ÉS MELYET  </a:t>
            </a:r>
            <a:r>
              <a:rPr b="0" lang="en-US" sz="1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3333cc"/>
                </a:solidFill>
                <a:latin typeface="Times New Roman"/>
              </a:rPr>
              <a:t>MÉRHETŐVÉ LEHET TENNI/</a:t>
            </a:r>
            <a:r>
              <a:rPr b="0" lang="en-US" sz="17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1" lang="en-US" sz="17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5349-F193-42CB-B135-B34DBC543EF4}" type="slidenum">
              <a:t>3</a:t>
            </a:fld>
          </a:p>
        </p:txBody>
      </p:sp>
    </p:spTree>
  </p:cSld>
  <p:transition spd="slow">
    <p:zoom dir="out"/>
    <p:sndAc>
      <p:stSnd>
        <p:snd r:embed="rId2" name="drumroll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14240" y="723960"/>
            <a:ext cx="8096400" cy="5710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HOGYAN VÁLLAL BIZTOSÍTÁST A MEHIB?</a:t>
            </a:r>
            <a:endParaRPr b="1" lang="en-US" sz="2500" spc="-1" strike="noStrike">
              <a:solidFill>
                <a:srgbClr val="3333cc"/>
              </a:solidFill>
              <a:latin typeface="Times New Roman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1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POLITIKAI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KERESKEDELMI</a:t>
            </a:r>
            <a:endParaRPr b="1" lang="en-US" sz="21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BIZTOSÍTÁS                 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 BIZTOSÍTÁS</a:t>
            </a:r>
            <a:endParaRPr b="1" lang="en-US" sz="21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                                                                </a:t>
            </a:r>
            <a:endParaRPr b="1" lang="en-US" sz="21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1" lang="en-US" sz="21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KÖLTSÉGVETÉS 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PIACI ALAPON,</a:t>
            </a:r>
            <a:endParaRPr b="1" lang="en-US" sz="21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KÉSZFIZETŐ KEZESSÉGE 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VISZONTBIZTOSÍTÁSSAL</a:t>
            </a:r>
            <a:endParaRPr b="1" lang="en-US" sz="21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CSÖKKENTVE A SAJÁT</a:t>
            </a:r>
            <a:endParaRPr b="1" lang="en-US" sz="21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KOCKÁZATOT</a:t>
            </a:r>
            <a:endParaRPr b="1" lang="en-US" sz="21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GLOBÁLLIMIT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          (2000: 250 MRD  FT)</a:t>
            </a:r>
            <a:endParaRPr b="1" lang="en-US" sz="21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KÁRFIZETÉSI ELŐIRÁNYZAT  (2000: 3 200 MILLIÓ FT)</a:t>
            </a:r>
            <a:endParaRPr b="1" lang="en-US" sz="21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46360" y="2332080"/>
            <a:ext cx="0" cy="72396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73760" y="2332080"/>
            <a:ext cx="0" cy="72396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46360" y="3941640"/>
            <a:ext cx="0" cy="40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6056-3F83-43C9-808D-82B70B5CDB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66840" y="704880"/>
            <a:ext cx="722952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marL="357120" indent="-357120">
              <a:spcBef>
                <a:spcPts val="726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FOGALMI MEGHATÁROZÁSO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624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624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624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1, ÖNRÉSZESEDÉS / KÁRFIZETÉSI HÁNYA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624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2, KÁRFIZETÉSI TÜRELMI IDŐ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624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3, HITELLIMI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624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4, KÁRVESZÉL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624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5, KIVÁRÁSI IDŐ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624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6, KÁRFIZETÉSI IDŐ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624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7, BIZTOSÍTÁSI DÍJ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DBD6-7439-4748-B334-E28A3DB6C2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70120" y="625320"/>
            <a:ext cx="810252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spcBef>
                <a:spcPts val="726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BIZTOSÍTÁSI DÍJ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76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imes New Roman"/>
              </a:rPr>
              <a:t>A BIZTOSÍTÁSI FEDEZET ÁRA,  A VESZÉLYKÖZÖSSÉG TAGJAINAK  A BIZTOSITÁSI ALAP KÉPZÉSÉHEZ TÖRTÉNŐ HOZZÁJÁRULÁS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A  DÍJ  NAGYSÁGÁT  MEGHATÁROZZÁK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*  KÁRFIZETÉSI HÁNYAD (ÖNRÉSZESEDÉ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*  IPARÁ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*  SZERZŐDÉSBEN ALKALMAZOTT FIZETÉSI   FELTÉT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*  FIZETÉSI TAPASZTALAT AZ ADÓSSAL SZEMB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*  KÁRTAPASZTAL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*  ADÓS ORSZÁG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* ADÓS MINŐSÍTÉ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*  A BIZTOSÍTANDÓ  FORGALOM NAGYSÁG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44E8-AB08-4199-AE75-CBECBF2C1F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55480" y="901800"/>
            <a:ext cx="8096400" cy="4927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Times New Roman"/>
              </a:rPr>
              <a:t>KÁRFIZETÉS</a:t>
            </a:r>
            <a:endParaRPr b="1" lang="en-US" sz="42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* DEVIZAALAPÚ, FORINTBAN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* ÁRFOLYAMOK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* KÖVETELÉS BEHAJTÁS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* KÁRBEHAJTÁS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EHIB RT.  A KÁRT  A  KÖVETELÉSEK  ESEDÉKESSÉGÉNEK  NAPJÁN ÉRVÉNYES, A  BIZTOSÍTOTT  BANKJA  ÁLTAL  ADOTT  DEVIZÁRA JEGYZETT  VÉTELI  ÁRFOLYAMON  FIZETI  MEG.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6408-64F5-4ECF-B082-5E50CD5E32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71440" y="614520"/>
            <a:ext cx="1908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4720" y="704880"/>
            <a:ext cx="819792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marL="357120" indent="-357120" algn="ctr">
              <a:spcBef>
                <a:spcPts val="726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EGYEDI ÜGYLETEK BIZTOSÍTÁS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624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* ÁLTALÁBAN NAGYOBB ÉRTÉKŰ, KÖZÉP/HOSSZÚ LEJÁRATÚ EX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624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624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* BEFOGADÁSI FELTÉTELEK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5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** EXPORTHITEL NYÚJTÁS = OECD KONSZENZU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5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** IMPORTHÁNYA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5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KÖZVETLEN : MAX. 10 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5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KÖZVETETT: MAX. 40 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5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** ELFOGADHATÓ ORSZÁGKOCKÁZ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5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* EGYEDI ÜGYLETELBÍRÁLÁ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5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0DB5-2060-40F3-9C89-283015F9F8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14240" y="642960"/>
            <a:ext cx="8096400" cy="5229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57120" indent="0" algn="ctr">
              <a:spcBef>
                <a:spcPts val="726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TELJES FORGALOM BIZTOSÍTÁSA</a:t>
            </a: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>
              <a:spcBef>
                <a:spcPts val="6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ÁLTALÁBAN GYORS FORGÁSI SEBESSÉGŰ FOGYASZTÁSI CIKKEK, RÖVID HITELFUTAMIDŐT IGÉNYLŐ ÁRUK</a:t>
            </a:r>
            <a:endParaRPr b="1" lang="en-US" sz="25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 algn="ctr">
              <a:spcBef>
                <a:spcPts val="6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5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>
              <a:spcBef>
                <a:spcPts val="6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* BEFOGADÁSI FELTÉTELEK:</a:t>
            </a:r>
            <a:endParaRPr b="1" lang="en-US" sz="25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>
              <a:spcBef>
                <a:spcPts val="6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** ELFOGADHATÓ ORSZÁG - ÉS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VEVŐKOCKÁZAT</a:t>
            </a:r>
            <a:endParaRPr b="1" lang="en-US" sz="25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>
              <a:spcBef>
                <a:spcPts val="6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** TELJES PORTFOLIÓ FELAJÁNLÁSA</a:t>
            </a:r>
            <a:endParaRPr b="1" lang="en-US" sz="25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>
              <a:spcBef>
                <a:spcPts val="6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** ÉRVÉNYES HITELLIMIT, STB...</a:t>
            </a:r>
            <a:endParaRPr b="1" lang="en-US" sz="25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>
              <a:spcBef>
                <a:spcPts val="6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5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9FEB-AE20-425C-AE02-6B09D80BD0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1T07:37:56Z</dcterms:created>
  <dc:creator>Magyar Exporthitel Biztosító</dc:creator>
  <dc:description/>
  <dc:language>en-US</dc:language>
  <cp:lastModifiedBy>Juhász Mihály</cp:lastModifiedBy>
  <cp:lastPrinted>1999-04-16T09:38:06Z</cp:lastPrinted>
  <dcterms:modified xsi:type="dcterms:W3CDTF">2003-04-30T07:04:43Z</dcterms:modified>
  <cp:revision>83</cp:revision>
  <dc:subject/>
  <dc:title>Nincs diacím</dc:title>
</cp:coreProperties>
</file>