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4448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4448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4448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2952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2952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4448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4448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4448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8305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4448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4448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2852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2952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4448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96840" y="65214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2003. április 2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6920" y="652140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Dr. Ferencz Ivá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762120"/>
            <a:ext cx="883908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2286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228600"/>
            <a:ext cx="228600" cy="457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3399"/>
                </a:solidFill>
                <a:latin typeface="Times New Roman"/>
              </a:rPr>
              <a:t>Lakás-takarékpénztárak Magyarország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4920" y="3124080"/>
            <a:ext cx="8534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Dr. Ferencz Ivá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Pázmány Péter Tudományegyetem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Heller Farkas Közgazdaságtudományi Intéz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003. április 28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lakástakarékpénztár alapvonásai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z állam az öngondoskodást támogatj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-takarékpénztár: lakáscélú betétgyűjté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életbiztosítás: vészhelyzetre történő önálló felkészülé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yugdíjbiztosítás: öregkorra történő előtakarékossá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lakástakarékpénztár alapvonásai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peciális szabályozás: Ltp.tv. és két Korm. r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izárólagosság a lakástakarék-üzlet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Feladata, célja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lakáscélok saját erőből történő megvalósítását elősegítő előtakarékossági lehetőség biztosítá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záltal hozzájárulás a hazai lakásállomány bővüléséhez, értékének megőrzéséhe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űködési elv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zárt rendszer, állami támogatá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inimális alaptők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 milliárd Ft (azonos a kereskedelmi bankokév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takarékpénztárak: tevékenységi kö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izárólag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lakáscélú betétgyűjté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lakáscélú hitelezé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0b0b"/>
                </a:solidFill>
                <a:latin typeface="Times New Roman"/>
              </a:rPr>
              <a:t>lakáscélú finanszírozáshoz közvetlenül kapcsolódóan más pénzügyi intézmény, illetve biztosítóintézet részére pénzügyi szolgáltatás közvetítése (ügynöki tevékenysé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észesedés a Hpt. szerinti járulékos vállalkozásban legfeljebb a szavatoló tőke 10%-a erejéi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takarékpénztárak: lakáscél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Lakótelek, lakás, családi ház, </a:t>
            </a:r>
            <a:r>
              <a:rPr b="1" lang="hu-HU" sz="2800" spc="-1" strike="noStrike">
                <a:solidFill>
                  <a:srgbClr val="ff0b0b"/>
                </a:solidFill>
                <a:latin typeface="Times New Roman"/>
              </a:rPr>
              <a:t>tanyai lakóingatlan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ásárlása, építése, cseréje, </a:t>
            </a:r>
            <a:r>
              <a:rPr b="1" lang="hu-HU" sz="2800" spc="-1" strike="noStrike">
                <a:solidFill>
                  <a:srgbClr val="ff0b0b"/>
                </a:solidFill>
                <a:latin typeface="Times New Roman"/>
              </a:rPr>
              <a:t>nyugdíjasházban bérleti jog vásárlás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bővítés, felújítás, korszerűsítés, helyreállítá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özművek, kommunális létesítmények kialakítása, </a:t>
            </a:r>
            <a:r>
              <a:rPr b="1" lang="hu-HU" sz="2800" spc="-1" strike="noStrike">
                <a:solidFill>
                  <a:srgbClr val="ff0b0b"/>
                </a:solidFill>
                <a:latin typeface="Times New Roman"/>
              </a:rPr>
              <a:t>felújítás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hu-HU" sz="2800" spc="-1" strike="noStrike">
                <a:solidFill>
                  <a:srgbClr val="ff0b0b"/>
                </a:solidFill>
                <a:latin typeface="Times New Roman"/>
              </a:rPr>
              <a:t>szilárd út, kerítés,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járda, telefon, áram-, víz-, gázvezeték szennyvízcsatorna, </a:t>
            </a:r>
            <a:r>
              <a:rPr b="1" lang="hu-HU" sz="2800" spc="-1" strike="noStrike">
                <a:solidFill>
                  <a:srgbClr val="ff0b0b"/>
                </a:solidFill>
                <a:latin typeface="Times New Roman"/>
              </a:rPr>
              <a:t>csapadékvíz-elvezető csatorna, árok, központi fűtés, informatikai hálózati kapcsol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takarékpénztárak: lakáscél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övetkezeti vagy társasházi közös tulajdonú épületrészek felújítása, korszerűsíté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b0b"/>
                </a:solidFill>
                <a:latin typeface="Times New Roman"/>
              </a:rPr>
              <a:t>pénzügyi intézménytől, vagy biztosítóintézettől felvett kölcsön, valamint a hitelintézet által folyósított és igazolt célra felhasznált munkáltatói, illetve települési önkormányzat által nyújtott kölcsön kiváltása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(korábban: hitelintézettől felvett lakáscélú kölcsön kiváltása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takarékpénztárak: a konstrukció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Times New Roman"/>
              </a:rPr>
              <a:t>Megtakarítási szakasz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Előtakarékosság: min. 4 év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mi támogatás: 30%, max. </a:t>
            </a:r>
            <a:r>
              <a:rPr b="1" lang="hu-HU" sz="2400" spc="-1" strike="noStrike">
                <a:solidFill>
                  <a:srgbClr val="ff0b0b"/>
                </a:solidFill>
                <a:latin typeface="Times New Roman"/>
              </a:rPr>
              <a:t>72.000 Ft-216.000 Ft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(1997-ben 40%, 36.000 Ft, 1998-tól 30%, 36.000 F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etéti kamat: évi 3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thidaló kölcsön: 2 év után, 25% megtakarítási szint elérése eseté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itelszakasz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6%-os éves kamatozású, lakáscélú kölcsön (10% alatt kell legyen az állami támogatáshoz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utamideje: megtakarítási szakaszhoz igazod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takarékpénztárak: a konstrukció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09880" y="129492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8098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3320" y="40384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7640" y="9907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62120" y="1905120"/>
            <a:ext cx="3047760" cy="1904760"/>
          </a:xfrm>
          <a:prstGeom prst="rtTriangle">
            <a:avLst/>
          </a:prstGeom>
          <a:solidFill>
            <a:srgbClr val="006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2120" y="2209680"/>
            <a:ext cx="3047760" cy="1600200"/>
          </a:xfrm>
          <a:prstGeom prst="rtTriangle">
            <a:avLst/>
          </a:prstGeom>
          <a:solidFill>
            <a:srgbClr val="45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62120" y="2666880"/>
            <a:ext cx="3047760" cy="114300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rot="10800000">
            <a:off x="3809880" y="3809880"/>
            <a:ext cx="4572000" cy="1905120"/>
          </a:xfrm>
          <a:prstGeom prst="rtTriangl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91160" y="327672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aját befize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2095200" y="2476440"/>
            <a:ext cx="381240" cy="3047760"/>
          </a:xfrm>
          <a:custGeom>
            <a:avLst/>
            <a:gdLst>
              <a:gd name="textAreaLeft" fmla="*/ 0 w 381240"/>
              <a:gd name="textAreaRight" fmla="*/ 137520 w 38124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 rot="16200000">
            <a:off x="5905440" y="1333440"/>
            <a:ext cx="380880" cy="4572000"/>
          </a:xfrm>
          <a:custGeom>
            <a:avLst/>
            <a:gdLst>
              <a:gd name="textAreaLeft" fmla="*/ 0 w 380880"/>
              <a:gd name="textAreaRight" fmla="*/ 137520 w 3808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417528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99"/>
                </a:solidFill>
                <a:latin typeface="Times New Roman"/>
              </a:rPr>
              <a:t>Megtakarítási szaka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2320" y="304812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Hitelszaka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1905120"/>
            <a:ext cx="2057400" cy="4572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45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Állami tám.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56920" y="3962520"/>
            <a:ext cx="216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Lakáscélú kölcsö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fix 6%-os ka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1905120"/>
            <a:ext cx="152280" cy="38098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990360" y="5181480"/>
            <a:ext cx="2361960" cy="609840"/>
          </a:xfrm>
          <a:prstGeom prst="wedgeRectCallout">
            <a:avLst>
              <a:gd name="adj1" fmla="val -57930"/>
              <a:gd name="adj2" fmla="val 90625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4880" y="5241960"/>
            <a:ext cx="2210760" cy="398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zerződéses össz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99520" y="493704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2680" y="114300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3399"/>
                </a:solidFill>
                <a:latin typeface="Times New Roman"/>
              </a:rPr>
              <a:t>5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371600" y="1828800"/>
            <a:ext cx="1447920" cy="4572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006cd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Kamat 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szerződéses össze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galma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 a megtakarítások, az állami támogatások, a betéti kamatok és a lakáskölcsön együttes össze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ámítási alapja a havi megtakarítási és hiteltörlesztési összegn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Összege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4 év után: 1,2-1,4 millió Ft </a:t>
            </a:r>
            <a:r>
              <a:rPr b="1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0b0b"/>
                </a:solidFill>
                <a:latin typeface="Times New Roman"/>
              </a:rPr>
              <a:t>2,4-7,5 millió 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8 év után: 2,6-2,8 millió Ft </a:t>
            </a:r>
            <a:r>
              <a:rPr b="1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0b0b"/>
                </a:solidFill>
                <a:latin typeface="Times New Roman"/>
              </a:rPr>
              <a:t>5,2-15 millió 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takarékpénztárak: befektetés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örvényi korlátozások a szabad eszközök (gyakorlatilag ügyfélpénzek) befektetésé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in. 50% állampapír (H, EU, OECD, IMF) vagy készpénz, számlapén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x. 20% bankközi betét belföldi hitelintézetné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x. 20% áthidaló kölcsö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x. </a:t>
            </a:r>
            <a:r>
              <a:rPr b="1" lang="hu-HU" sz="2400" spc="-1" strike="noStrike">
                <a:solidFill>
                  <a:srgbClr val="ff0b0b"/>
                </a:solidFill>
                <a:latin typeface="Times New Roman"/>
              </a:rPr>
              <a:t>30%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(korábban: 25%) jelzáloglevé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997-ben három pénztár indul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998-tól 2002-ig négy pénztár működöt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002. 09. 01.: a Lakáskassza-Wüstenrot Rt. átvette az Otthon Rt. állományá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2003. nyár: a Fundamenta Rt. és a Lakáskassza-Wüstenrot Rt. egyesülne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ét hazai lakástakarékpénztá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hu-H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magyar lakástakarék piac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01640" y="4392720"/>
            <a:ext cx="974880" cy="865080"/>
            <a:chOff x="701640" y="4392720"/>
            <a:chExt cx="974880" cy="865080"/>
          </a:xfrm>
        </p:grpSpPr>
        <p:sp>
          <p:nvSpPr>
            <p:cNvPr id="107" name=""/>
            <p:cNvSpPr/>
            <p:nvPr/>
          </p:nvSpPr>
          <p:spPr>
            <a:xfrm>
              <a:off x="701640" y="4392720"/>
              <a:ext cx="974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701640" y="4392720"/>
              <a:ext cx="9748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01640" y="4392720"/>
              <a:ext cx="97488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5705640"/>
            <a:ext cx="2971800" cy="390240"/>
            <a:chOff x="457200" y="5705640"/>
            <a:chExt cx="2971800" cy="390240"/>
          </a:xfrm>
        </p:grpSpPr>
        <p:sp>
          <p:nvSpPr>
            <p:cNvPr id="111" name=""/>
            <p:cNvSpPr/>
            <p:nvPr/>
          </p:nvSpPr>
          <p:spPr>
            <a:xfrm>
              <a:off x="457200" y="5705640"/>
              <a:ext cx="29718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57200" y="5705640"/>
              <a:ext cx="297180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57200" y="5705640"/>
              <a:ext cx="297180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267080" y="5181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296040" y="5562720"/>
            <a:ext cx="239076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evezetés a lakáselőtakarékosságba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lakáselőtakarékosság alapgondolata: kölcsönös segítség elve, piaci kamatkörnyezettől független konstrukci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ezdetek: 1920-as évek, Németország és Ausztria (I. vh. pusztítása, hiperinfláció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zárt (ún. Bauspar-) modell: csak betétes lehet hitelfelvevő, sorbaállítá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yílt (francia) model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magyar lakástakarék piac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14300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betétállomány (2003.03.31.): 77 Md F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állami támogatás állomány (2003.03.31.): 18 Md Ft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érvényben lévő szerződések (2003.03.31.): 837 ezer d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szerződés összege (2003.03.31.): 576 Md F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iutalás (2001-től 2003.03.31-ig): 94 ezer d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iutalás (2001-től 2003.03.31-ig): 76 Md Ft szerződéses össze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„háromlábú” finanszírozá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Öner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-előtakarékossá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itel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hitelintézeti: támogatot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hitelintézeti: piac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- szociális: munkáltatói, önkormányzati hitel é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ámogatá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itelintézeti piaci helyzet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itelintézeti piaci helyzet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itelintézeti piaci helyzet 3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3399"/>
                </a:solidFill>
                <a:latin typeface="Times New Roman"/>
              </a:rPr>
              <a:t>Lakáshelyzet Magyarországon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(2000. évi adatok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helyzet Európában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szoba030312" descr=""/>
          <p:cNvPicPr/>
          <p:nvPr/>
        </p:nvPicPr>
        <p:blipFill>
          <a:blip r:embed="rId1"/>
          <a:stretch/>
        </p:blipFill>
        <p:spPr>
          <a:xfrm>
            <a:off x="1211400" y="990720"/>
            <a:ext cx="67197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helyzet Európában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tulzsuf%20lakasok03031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helyzet Európában 3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tulaj030312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019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helyzet Magyarországon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99036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incsenek jelentős mennyiségi problémá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1000 főre kb. 400 laká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lakások minősége elmarad az európai színvonaltó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nem megfelelő közműellátottsá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500-800 ezer lakás nem megfelelő színvonalú, 100-150 ezer fel sem újíthat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cca. 700 ezer panel vagy más iparosított eljárással épült, felújítandó ingatl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3048120"/>
          <a:ext cx="4496040" cy="144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449604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evezetés a lakáselőtakarékosságba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ossági elterjedtség (penetráció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153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helyzet Magyarországon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úlzsúfoltság nem számottev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áztartások kb. 20%-ában kényszeregyüttélé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új lakás építésében nem drámai a lemaradá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jelentős regionális különbsége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agántulajdon dominanciáj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ulturális és privatizációs oko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korlátozza a lakás-rendszer rugalmasságá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lakásmobilitás alacsony szint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finanszírozá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inanszírozás főként magánerőbő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z EU átlaggal fordított finanszírozási arányo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09480" y="3124080"/>
            <a:ext cx="4815000" cy="2210040"/>
            <a:chOff x="1509480" y="3124080"/>
            <a:chExt cx="4815000" cy="2210040"/>
          </a:xfrm>
        </p:grpSpPr>
        <p:sp>
          <p:nvSpPr>
            <p:cNvPr id="143" name=""/>
            <p:cNvSpPr/>
            <p:nvPr/>
          </p:nvSpPr>
          <p:spPr>
            <a:xfrm>
              <a:off x="3200760" y="312408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Saját er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56720" y="312408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Hi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809880"/>
              <a:ext cx="1905120" cy="6858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80 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5160" y="3809880"/>
              <a:ext cx="1219320" cy="6858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2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7080" y="4648320"/>
              <a:ext cx="2057400" cy="68580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85-9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0040" y="4648320"/>
              <a:ext cx="1067040" cy="6858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10-1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9880" y="3962520"/>
              <a:ext cx="69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M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09480" y="47656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000000"/>
                  </a:solidFill>
                  <a:latin typeface="Times New Roman"/>
                </a:rPr>
                <a:t>EU át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hitelezés fejlődését hátráltató tényező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Csak nagy mértékű állami szerepvállalás mellett érhető el a vállalható kamatszi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osszú lejáratú hitelek hiány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egoldatlan nyilvántartási problémák (földhivatalok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örvényi akadályok (jelzálogjog érvényesítésének nehézkesség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politikai koncepció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06/1988. MT r. és több tucat módosítása: széttagolt kedvezményrendszer, lassú reakció a piaci változásokr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2/2001. Korm. r. és módosításai: előtérben a jelzáloghitelezés, kiterjesztett lakáscélo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Nemzeti Lakásprogram 2003: társasházi, bérlakás-program, fecskeháza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zárt rendszerű előtakarékosság jellemzői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anya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takarékpénztá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erződő: lakáselőtakarékoskodó, betétes </a:t>
            </a:r>
            <a:r>
              <a:rPr b="1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adó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edvezményezett: korlátozott (közeli hozzátartozó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zárt rendszerű előtakarékosság jellemzői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A lakáselőtakarékossági szerződés létszakasza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z ügyfél ajánlata - elfogadás az ltp. ált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etéti szakas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iutalá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itelszakas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zárt rendszerű előtakarékosság jellemzői 3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A kiutalá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szerződések értékelése a fordulónapokon, sorbaállítás (értékszám), kiutalási feltételek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szabad eszköz meghatározása (célértékszám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iutalási értesítő - ügyfélválas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iutalási időszak (3 hónap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kiutalás (nem azonos a kifizetésse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zárt rendszerű előtakarékosság jellemzői 4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Hitelszakas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fix, alacsony kamatozású kölcsön, annuitásos törleszté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rendkívüli előtörlesztés lehetősége nincs korlátozv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ja.tv. 38. § szerinti adókedvezményre nem jogosít (alkotmányossági aggályok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zárt rendszerű előtakarékosság jellemzői 5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 u="sng">
                <a:solidFill>
                  <a:srgbClr val="000000"/>
                </a:solidFill>
                <a:uFillTx/>
                <a:latin typeface="Times New Roman"/>
              </a:rPr>
              <a:t>A lakáscélú felhasználás ellenőrzé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eljes szerződéses összegre (benne az állami támogatásra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Ha nem igazol: az ltp. a Magyar Állam képviseletében eljárva érvényesíti a követelé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végrehajtás az adóhatóság felada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szabályozás továbbfejlesztésének irányai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j terméke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unkáltatói befizetés - munkaadói szerződés (önkéntes pénztári minta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családi szerződések bevezetése (legalább a kiskorúak tulajdonszerzési kényszerének megszünteté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Részvétel állami programokb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bérlakásprogramban kötelező előtakarékoskodás becsatornázása a lakástakarékpénztárakb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Bevezetés a lakáselőtakarékosságba 3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iért népszerű a lakástakarékpénztári rendszer Európában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z előtakarékoskodás a kultúra rész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tudatában vannak a kamatlábak ciklikus változásána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a LTP kamata fix, kiszámítható, független a külső környezettő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munkáltatói ösztönzőrendszer rész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lehetőség rugalmas termék-innovációr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A szabályozás továbbfejlesztésének irányai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konstrukció kötöttségeinek oldás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ja-kedvezmény a 6%-os kölcsönök utá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pületenkénti helyett lakásonkénti szerződésköté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thidaló hitel 6 hónap után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áthidaló hitel /szabad eszköz arány enyhíté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50%-os betét/SZÖ arány megváltoztatása, finanszírozási képesség javítás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agyarországi előzmény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I. vh. után: állami szerepvállalás „a lakásínség megszüntetésére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941. évi IV. tc. az építőtakaréküzlet szabályozásáról (kis hatá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945 után: a polgári öngondoskodás szerepének háttérbe szorítás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43/1980. PM r. az ifjúsági takarékbetétrő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90/1987 PM r. a lakáscélú megtakarításokró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Jelenlegi jogszabályi környez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996:CXII. tv. A hitelintézetekről és a pénzügyi vállalkozásokról (Hpt.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1996:CXIII. tv. a lakástakarékpénztárakról (Ltp.tv.) – hatályba lépés: 1997.01.0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215/1996. Korm. r. a lakáselőtakarékosság állami támogatásáró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47/1997. Korm. r. a lakástakarékpénztár általános szerződési feltételeirő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b0b"/>
                </a:solidFill>
                <a:latin typeface="Times New Roman"/>
              </a:rPr>
              <a:t>2003. április 1.: átfogó módosítá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énzügyi intézmények rendszere *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Pénzügyi intézmén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itelintéz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akosított hitelintéz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zövetkezeti hitelintézet (takarék- vagy hitelszövetkeze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énzügyi vállalkozá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257800"/>
            <a:ext cx="8381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 A Hitelintézeti törvény szerinti csoportosítás, amelynek alapját 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eltérő tevékenységi kör és az eltérő egyébkövetelmények (tők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jogszabály stb.) adjá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akosított hitelintézetek 1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pecialitásukat külön jogszabály, vagy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jogszabály rész szabályozza, amely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szabályokat mindig az alapjogszabállyal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(Hpt.) együttesen kell alkalmazn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inimális alaptőke: a külön jogszabályokban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szabályozot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Tevékenységi kör: speciális, és/vagy nem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terjedhet ki a teljes pénzügyi szolgáltatási</a:t>
            </a: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palettára (Hpt. 3. §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Szakosított hitelintézetek 2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agyar Fejlesztési Bank R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Magyar Export-Import Bank R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Jelzálog-hitelintézet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Lakás-takarékpénztára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3124080"/>
            <a:ext cx="381240" cy="99072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3444840"/>
            <a:ext cx="27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Lakásfinanszírozá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lehetőségek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5T13:18:34Z</dcterms:created>
  <dc:creator>Vizkelety Péter</dc:creator>
  <dc:description/>
  <dc:language>en-US</dc:language>
  <cp:lastModifiedBy>ferenczi</cp:lastModifiedBy>
  <cp:lastPrinted>2003-04-23T09:43:04Z</cp:lastPrinted>
  <dcterms:modified xsi:type="dcterms:W3CDTF">2003-04-23T09:47:35Z</dcterms:modified>
  <cp:revision>111</cp:revision>
  <dc:subject/>
  <dc:title>Nincs diacím</dc:title>
</cp:coreProperties>
</file>