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DEE7-FBCD-45BC-846C-FA3ACE00D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8001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784320"/>
            <a:ext cx="8001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7052-70CE-442E-AF89-D42B377F8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78432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56520" y="378432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4B94-3DBF-4C12-9A4F-911350145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2240" y="171468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7640" y="171468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78432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2240" y="378432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7640" y="378432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C490-E531-47BE-979E-D4E485508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71468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78432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71468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D1DE-F917-4A21-9441-09E63A64C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6520" y="378432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784320"/>
            <a:ext cx="8001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8001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784320"/>
            <a:ext cx="8001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78432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56520" y="378432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2240" y="171468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67640" y="171468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78432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2240" y="378432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67640" y="3784320"/>
            <a:ext cx="2576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F6C8-47FB-4D54-B22F-89DF4095F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911C-3BCC-43BF-9944-ED9BB043E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2B2F-3E65-4DA1-83BC-CE2B8F244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8681-441C-4645-B46C-606A82C20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78432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345B-2CD3-4122-AAE0-62DD876DB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6520" y="378432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C118-DB10-4FC7-9648-41268848E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6520" y="1714680"/>
            <a:ext cx="3904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784320"/>
            <a:ext cx="8001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09CA-CC6D-4B03-9FFA-E17A2D1B6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1468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4128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571680" indent="-22860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804960" indent="-22860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039680" indent="-22860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039680" indent="-228600">
              <a:lnSpc>
                <a:spcPts val="2999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039680" indent="-228600">
              <a:lnSpc>
                <a:spcPts val="2999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14400" y="6400800"/>
            <a:ext cx="30481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0 Deloitte &amp; Tou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3241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EF19-145D-41E6-B019-B86B8F5E21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DAT_sm" descr=""/>
          <p:cNvPicPr/>
          <p:nvPr/>
        </p:nvPicPr>
        <p:blipFill>
          <a:blip r:embed="rId2"/>
          <a:stretch/>
        </p:blipFill>
        <p:spPr>
          <a:xfrm>
            <a:off x="7010280" y="5807160"/>
            <a:ext cx="1511280" cy="6476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571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838080" y="32767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341280" indent="0" algn="ctr">
              <a:lnSpc>
                <a:spcPts val="2999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343080" algn="ctr">
              <a:lnSpc>
                <a:spcPts val="2999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576360" algn="ctr">
              <a:lnSpc>
                <a:spcPts val="2999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811080" algn="ctr">
              <a:lnSpc>
                <a:spcPts val="2999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8110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8110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ff"/>
                </a:solidFill>
                <a:latin typeface="Arial"/>
              </a:rPr>
              <a:t>A számvitel szerepe az adójogba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ffffff"/>
                </a:solidFill>
                <a:latin typeface="Arial"/>
              </a:rPr>
              <a:t>Dr. Békés Baláz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ffffff"/>
                </a:solidFill>
                <a:latin typeface="Arial"/>
              </a:rPr>
              <a:t>PPKE Pénzügyi jogi tanszé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09680" y="380880"/>
            <a:ext cx="472464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A mérle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990720"/>
            <a:ext cx="4191120" cy="137160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1523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vállalat rendelkezésére álló anyagi javak összessé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990720"/>
            <a:ext cx="2438280" cy="53316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9907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állalati vagy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819520"/>
            <a:ext cx="4191120" cy="19810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42900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z újratermelési folyamatban betöltött szerepük, megjelenési formájuk szerinti csoportos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819520"/>
            <a:ext cx="2438640" cy="6094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2971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szköz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2819520"/>
            <a:ext cx="4191120" cy="19810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5812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zármazásuk, eredetük szerinti csoportos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2819520"/>
            <a:ext cx="2438640" cy="6094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2971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r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743200" y="2438280"/>
            <a:ext cx="9144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2438280"/>
            <a:ext cx="9907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5486400"/>
            <a:ext cx="2438640" cy="5335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5486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     =     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87692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028840" y="4952880"/>
            <a:ext cx="12193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Összefüggések a vállalat eszközei és forrásai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özött az eredménymegosztás előtti állapotb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828800"/>
            <a:ext cx="3504960" cy="91440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Eszközö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743200"/>
            <a:ext cx="3504960" cy="137160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Befektetett Eszközö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4114800"/>
            <a:ext cx="3504960" cy="15238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Forgóeszközö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1828800"/>
            <a:ext cx="3505320" cy="91440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Forráso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743200"/>
            <a:ext cx="3505320" cy="68580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Saját forrá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3429000"/>
            <a:ext cx="3505320" cy="7621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Idegen forrá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4191120"/>
            <a:ext cx="3505320" cy="144756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Eredmén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(felosztás előt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nyeresé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962160" y="3048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038480" y="350532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962160" y="3809520"/>
            <a:ext cx="6094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038480" y="3200400"/>
            <a:ext cx="60984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114800" y="3962520"/>
            <a:ext cx="53352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962160" y="5257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457200"/>
            <a:ext cx="7848720" cy="81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A vállalat eszközeinek csoportosítás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megjelenési forma (összetétel) szer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1600200"/>
            <a:ext cx="27432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szköz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590920"/>
            <a:ext cx="403848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góeszköz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3581280"/>
            <a:ext cx="99072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Köv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telés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2590920"/>
            <a:ext cx="373392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efektetett eszköz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581280"/>
            <a:ext cx="106668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Pén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eszközö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44792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Immateriális jav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581280"/>
            <a:ext cx="99072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Érték-papír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3581280"/>
            <a:ext cx="121896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Készlet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3581280"/>
            <a:ext cx="106704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Tárgy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eszközö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3581280"/>
            <a:ext cx="1447920" cy="9169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Befektete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pénzügy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eszközö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236232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236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236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4872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2057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457200"/>
            <a:ext cx="784872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A források (a vállalati vagyon eredete szerinti) csoportosí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990720"/>
            <a:ext cx="266688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R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828800"/>
            <a:ext cx="1523880" cy="7038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aját forr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1828800"/>
            <a:ext cx="1371600" cy="7038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redmé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(nyeresé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1828800"/>
            <a:ext cx="358164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degen források (tartozás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2590920"/>
            <a:ext cx="510552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Állammal/Bankkal/Más vállalattal/ Dolgozókk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szemberi kötelezettség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-640080" y="3991680"/>
            <a:ext cx="244152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Jegyzett tő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105840" y="3990240"/>
            <a:ext cx="243972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artalék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03280" y="3839760"/>
            <a:ext cx="2440080" cy="7038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lőző évek áthozott vesztesé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036800" y="3915720"/>
            <a:ext cx="3049560" cy="7038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állalatnál maradó rés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(mérleg szerinti eredmé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1875960" y="3915000"/>
            <a:ext cx="3048120" cy="7038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lvonásra kerülő rés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(adó és osztalé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3091680" y="4146840"/>
            <a:ext cx="2292480" cy="7038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dótartozá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Állami kölcsö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3899520" y="4171680"/>
            <a:ext cx="2286000" cy="6422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eruházási hi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4813560" y="4021920"/>
            <a:ext cx="2286000" cy="9471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rgóeszköz hi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5895360" y="3934440"/>
            <a:ext cx="2292480" cy="1128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zállító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7205760" y="3842640"/>
            <a:ext cx="2293920" cy="13136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unkabér és egyéb tarz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5943600"/>
            <a:ext cx="251460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Saját forr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943600"/>
            <a:ext cx="579096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degen források (tartozások)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1523880"/>
            <a:ext cx="502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1523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1523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1523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2590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2590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514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514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1008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5410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5410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5410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5257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5791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5638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5638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5638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5638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5638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5791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4920" y="838080"/>
            <a:ext cx="838188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Az alapvető gazdasági események megjelenése a főkönyvi számlák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28954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2666880"/>
            <a:ext cx="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289548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266688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209680"/>
            <a:ext cx="3733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T            Eszköz számlák           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2209680"/>
            <a:ext cx="36576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T         Forrás  számlák           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6120" y="2895480"/>
            <a:ext cx="7285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 nő és E csökken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-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 nő és F csökken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            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 nő és F nő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           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E csökken és F csökken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Eredménykimutatá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Üzemi (üzleti) tevékenység eredmény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Pénzügyi műveletek eredmény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zokásos vállalkozási eredmén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Rendkívüli eredmén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9900"/>
                </a:solidFill>
                <a:latin typeface="Arial"/>
                <a:ea typeface="Times New Roman"/>
              </a:rPr>
              <a:t>E</a:t>
            </a:r>
            <a:r>
              <a:rPr b="0" lang="hu-HU" sz="2600" spc="-1" strike="noStrike">
                <a:solidFill>
                  <a:srgbClr val="ff9900"/>
                </a:solidFill>
                <a:latin typeface="Arial"/>
                <a:ea typeface="Times New Roman"/>
              </a:rPr>
              <a:t>	</a:t>
            </a:r>
            <a:r>
              <a:rPr b="0" lang="hu-HU" sz="2600" spc="-1" strike="noStrike">
                <a:solidFill>
                  <a:srgbClr val="ff9900"/>
                </a:solidFill>
                <a:latin typeface="Arial"/>
                <a:ea typeface="Times New Roman"/>
              </a:rPr>
              <a:t>Adózás előtti eredmén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dózott eredmén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G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Mérleg szerinti eredmén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533520"/>
            <a:ext cx="56386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Az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edménykimut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2133720" cy="14479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Üz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(üzlet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evékenysé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edmén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1295280"/>
            <a:ext cx="2514600" cy="14479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énzügy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űvele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edmén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2743200"/>
            <a:ext cx="4648320" cy="8380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zokásos vállalkozá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2743200"/>
            <a:ext cx="1828800" cy="8380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Rendkívü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581280"/>
            <a:ext cx="6477120" cy="68580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dózás előtti 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4267080"/>
            <a:ext cx="4648320" cy="7621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dózott 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4267080"/>
            <a:ext cx="1828800" cy="7621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dófizeté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ötelezett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5029200"/>
            <a:ext cx="2514600" cy="10666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ér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zeri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5029200"/>
            <a:ext cx="2133720" cy="10666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Jóváhagy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osztal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457200"/>
            <a:ext cx="601992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A könyvvizsgálói jelentés tartal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219320"/>
            <a:ext cx="2210040" cy="99036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ímz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1219320"/>
            <a:ext cx="2590560" cy="99036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z adott beszámol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zonosító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1219320"/>
            <a:ext cx="3352680" cy="99036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z elvégzett vizsgála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jellege, összefoglal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emuta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2438280"/>
            <a:ext cx="2590560" cy="9907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önyvizsgálói jelen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156.§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2590920"/>
            <a:ext cx="2133360" cy="60948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elte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5257800"/>
            <a:ext cx="7620120" cy="9907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könyvvizsgáló neve, aláírása, címe, kamarai bejegyzési szám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illetve társaság esetén még a képviseletre jogosult neve, aláírás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társaság megnevezése, címe, kamarai nyilvántartási szá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86400" y="3657600"/>
            <a:ext cx="3352680" cy="144792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Záradék, vagy a záradé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egadásának elutas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3657600"/>
            <a:ext cx="4114800" cy="1371600"/>
          </a:xfrm>
          <a:prstGeom prst="rect">
            <a:avLst/>
          </a:prstGeom>
          <a:solidFill>
            <a:srgbClr val="00007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élemény, álláspont arró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hogy a beszámoló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foglaltak megfelelnek-e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jogszabályban foglaltakn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könyvvizsgálói jelentés és a záradék, 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lletve a záradék megadásának elutasítása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ts val="2999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Könyvvizsgálói jelenté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, 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A záradék megadásának elutasítás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b, A könyvvizsgálói záradék 158.§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elutasít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hitelesítő, a következő szöveg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 is magában foglal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korlátozot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A könyvvizsgálói záradék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just">
              <a:lnSpc>
                <a:spcPts val="2999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könyvvizsgálat során a vállalkozó éves beszámolóját (egyszerűsített éves beszámolóját), annak részeit és tételeit, azok könyvelési és bizonylati alátámasztását az érvényes nemzeti könyvvizsgálati standardokban foglaltak szerint </a:t>
            </a:r>
            <a:r>
              <a:rPr b="1" lang="hu-HU" sz="2400" spc="-1" strike="noStrike">
                <a:solidFill>
                  <a:srgbClr val="ff9900"/>
                </a:solidFill>
                <a:latin typeface="Arial"/>
              </a:rPr>
              <a:t>felülvizsgáltam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, és ennek alapján elegendő és megfelelő </a:t>
            </a:r>
            <a:r>
              <a:rPr b="1" lang="hu-HU" sz="2400" spc="-1" strike="noStrike">
                <a:solidFill>
                  <a:srgbClr val="ff9900"/>
                </a:solidFill>
                <a:latin typeface="Arial"/>
              </a:rPr>
              <a:t>bizonyosságot szereztem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arról, hogy az éves beszámolót (az egyszerűsített éves beszámolót) a számviteli törvényben foglaltak és az általános </a:t>
            </a:r>
            <a:r>
              <a:rPr b="1" lang="hu-HU" sz="2400" spc="-1" strike="noStrike">
                <a:solidFill>
                  <a:srgbClr val="ff9900"/>
                </a:solidFill>
                <a:latin typeface="Arial"/>
              </a:rPr>
              <a:t>számviteli elvek szerint készítették el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. Az éves beszámoló (az egyszerűsített éves beszámoló) a vállalkozó vagyoni, pénzügyi és jövedelmi helyzetéről </a:t>
            </a:r>
            <a:r>
              <a:rPr b="1" lang="hu-HU" sz="2400" spc="-1" strike="noStrike">
                <a:solidFill>
                  <a:srgbClr val="ff9900"/>
                </a:solidFill>
                <a:latin typeface="Arial"/>
              </a:rPr>
              <a:t>megbízható és való képet ad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. Az üzleti jelentés az éves beszámoló adataival összhangban va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0" algn="just">
              <a:lnSpc>
                <a:spcPts val="2999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Tartalo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Bevezet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Számviteli alapelv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Példamegoldá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Részletszabályo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Számvitel funkciój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Megbízható és valós ké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Szt. preambulu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A gazdasági esemény, bizonylat és a könyvvitel összefüggé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Gazdasági esemén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Bizonyl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Könyvelés (bizonylatfeldolgozás és nyilvántartá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Összesítő-ellenőrző kimutatá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Szt. alapelve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Általán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Vállalkozás folytatásának az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Tartalmi alapelv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Teljesség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Valódiság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Óvatosság elv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Összemérés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Szt. alapelve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Kiegészítő alapelv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Tartalom elsődlegessége a formával szemb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Egyedi értékelés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Bruttó elszámolás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Időbeli elhatárolás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Lényegesség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Gazdaságosság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Szt. alapelve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Formai alapelv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Világosság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Folytonosság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Következetesség 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Szt. alapelve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Nem nevesített alapelv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ts val="29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Hasznosíthatóság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Semlegesség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Időszerűség  el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A beszámoló része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Mérle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Eredménykimutatá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Kiegészítő mellékl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ts val="2999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Üzleti jelent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2:54:00Z</dcterms:created>
  <dc:creator>Gyallai Edit</dc:creator>
  <dc:description>Deloitte &amp; Touche On-Screen presentation template for Microsoft PowerPoint 97</dc:description>
  <dc:language>en-US</dc:language>
  <cp:lastModifiedBy>Békés Balázs</cp:lastModifiedBy>
  <cp:lastPrinted>2002-03-01T11:23:03Z</cp:lastPrinted>
  <dcterms:modified xsi:type="dcterms:W3CDTF">2003-03-04T22:49:00Z</dcterms:modified>
  <cp:revision>21</cp:revision>
  <dc:subject/>
  <dc:title>A számvitel szerepe az adójogban</dc:title>
</cp:coreProperties>
</file>