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85229-D72A-4595-8C32-1A7AA5EF3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89D4-4FC1-4325-88D5-49A4DA0C6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E7342-EB3A-4621-AB34-7EDB2785C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5906B-C131-44F8-B6AB-649DDE452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764E9-5545-471E-9368-4BE600001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F8A07-224A-4D76-A308-4610DABFB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D140F-532A-403E-AB40-1FEF68845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00690-60AF-40F6-8C48-29DECFF71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5AC8F-FA4D-435C-8D03-88178D622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DCA72-F0DD-4D39-B310-F5A752E68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2B172-2172-4268-B1F2-BE20BEEEF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F3C1D-959A-47E2-9823-84135B2D8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3389-0199-4A53-A1FA-25441579EC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énzügyi jo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Repetitorium 2.</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önadózá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371600"/>
            <a:ext cx="7772400" cy="495288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t, illetve a költségvetési támogatást - ha törvény előírja - az adózó köteles</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lang="en-US" sz="2400" spc="-1" strike="noStrike">
                <a:solidFill>
                  <a:srgbClr val="000000"/>
                </a:solidFill>
                <a:latin typeface="Times New Roman"/>
                <a:ea typeface="Times New Roman"/>
              </a:rPr>
              <a:t>megállapítani,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t>
            </a:r>
            <a:r>
              <a:rPr b="0" lang="en-US" sz="2400" spc="-1" strike="noStrike">
                <a:solidFill>
                  <a:srgbClr val="000000"/>
                </a:solidFill>
                <a:latin typeface="Times New Roman"/>
                <a:ea typeface="Times New Roman"/>
              </a:rPr>
              <a:t>bevallani és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a:t>
            </a:r>
            <a:r>
              <a:rPr b="0" lang="en-US" sz="2400" spc="-1" strike="noStrike">
                <a:solidFill>
                  <a:srgbClr val="000000"/>
                </a:solidFill>
                <a:latin typeface="Times New Roman"/>
                <a:ea typeface="Times New Roman"/>
              </a:rPr>
              <a:t>megfizetni.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jogi személy és egyéb szervezet az adót és a költségvetési támogatást első sorban önadózással állapítja meg. </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magánszemély az adóját akkor állapítja meg önadózással, ha</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vállalkozó, (a kivetés és a kiszabás kivételével),</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az általános forgalmi adó vagy a fogyasztási adó alanya,</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összjövedelme utáni jövedelemadóját nem a munkáltatója állapította m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levoná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a:t>
            </a:r>
            <a:r>
              <a:rPr b="1" lang="en-US" sz="2200" spc="-1" strike="noStrike">
                <a:solidFill>
                  <a:srgbClr val="000000"/>
                </a:solidFill>
                <a:latin typeface="Times New Roman"/>
                <a:ea typeface="Times New Roman"/>
              </a:rPr>
              <a:t>kifizető</a:t>
            </a:r>
            <a:r>
              <a:rPr b="0" lang="en-US" sz="2200" spc="-1" strike="noStrike">
                <a:solidFill>
                  <a:srgbClr val="000000"/>
                </a:solidFill>
                <a:latin typeface="Times New Roman"/>
                <a:ea typeface="Times New Roman"/>
              </a:rPr>
              <a:t> más személy adóját akkor állapítja meg, ha ezt törvény előírja.</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a:t>
            </a:r>
            <a:r>
              <a:rPr b="1" lang="en-US" sz="2200" spc="-1" strike="noStrike">
                <a:solidFill>
                  <a:srgbClr val="000000"/>
                </a:solidFill>
                <a:latin typeface="Times New Roman"/>
                <a:ea typeface="Times New Roman"/>
              </a:rPr>
              <a:t>munkáltató</a:t>
            </a:r>
            <a:r>
              <a:rPr b="0" lang="en-US" sz="2200" spc="-1" strike="noStrike">
                <a:solidFill>
                  <a:srgbClr val="000000"/>
                </a:solidFill>
                <a:latin typeface="Times New Roman"/>
                <a:ea typeface="Times New Roman"/>
              </a:rPr>
              <a:t> a magánszemély jövedelemadóját akkor köteles megállapítani, ha annak törvényben foglalt feltételei fennállnak.</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magánszemély a munkáltatónak </a:t>
            </a:r>
            <a:r>
              <a:rPr b="0" lang="en-US" sz="2200" spc="-1" strike="noStrike">
                <a:solidFill>
                  <a:srgbClr val="000000"/>
                </a:solidFill>
                <a:latin typeface="Times New Roman"/>
              </a:rPr>
              <a:t>köteles </a:t>
            </a:r>
            <a:r>
              <a:rPr b="0" lang="en-US" sz="2200" spc="-1" strike="noStrike">
                <a:solidFill>
                  <a:srgbClr val="000000"/>
                </a:solidFill>
                <a:latin typeface="Times New Roman"/>
                <a:ea typeface="Times New Roman"/>
              </a:rPr>
              <a:t>nyilatkoz</a:t>
            </a:r>
            <a:r>
              <a:rPr b="0" lang="en-US" sz="2200" spc="-1" strike="noStrike">
                <a:solidFill>
                  <a:srgbClr val="000000"/>
                </a:solidFill>
                <a:latin typeface="Times New Roman"/>
              </a:rPr>
              <a:t>n</a:t>
            </a:r>
            <a:r>
              <a:rPr b="0" lang="en-US" sz="2200" spc="-1" strike="noStrike">
                <a:solidFill>
                  <a:srgbClr val="000000"/>
                </a:solidFill>
                <a:latin typeface="Times New Roman"/>
                <a:ea typeface="Times New Roman"/>
              </a:rPr>
              <a:t>i arról, hogy </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kizárólag munkáltatótól származó, adómentességet nem élvező jövedelme van </a:t>
            </a:r>
            <a:r>
              <a:rPr b="0" lang="en-US" sz="2200" spc="-1" strike="noStrike" u="sng">
                <a:solidFill>
                  <a:srgbClr val="000000"/>
                </a:solidFill>
                <a:uFillTx/>
                <a:latin typeface="Times New Roman"/>
                <a:ea typeface="Times New Roman"/>
              </a:rPr>
              <a:t>vagy</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dóbevallást tesz </a:t>
            </a:r>
            <a:r>
              <a:rPr b="0" lang="en-US" sz="2200" spc="-1" strike="noStrike">
                <a:solidFill>
                  <a:srgbClr val="000000"/>
                </a:solidFill>
                <a:latin typeface="Times New Roman"/>
              </a:rPr>
              <a:t>az önadózás szabályai szerint</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munkáltató az adóalapot és az adót a magánszemély nyilatkozata alapján, az adóalapot csökkentő, illetve adókedvezmény igénybevételére jogosító igazolások figyelembevételével állapítja meg.</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kivetés</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t>
            </a:r>
            <a:r>
              <a:rPr b="1" lang="en-US" sz="3200" spc="-1" strike="noStrike">
                <a:solidFill>
                  <a:srgbClr val="000000"/>
                </a:solidFill>
                <a:latin typeface="Times New Roman"/>
                <a:ea typeface="Times New Roman"/>
              </a:rPr>
              <a:t>önkormányzati adóhatóság</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kivetéssel</a:t>
            </a:r>
            <a:r>
              <a:rPr b="0" lang="en-US" sz="3200" spc="-1" strike="noStrike">
                <a:solidFill>
                  <a:srgbClr val="000000"/>
                </a:solidFill>
                <a:latin typeface="Times New Roman"/>
                <a:ea typeface="Times New Roman"/>
              </a:rPr>
              <a:t> állapítja meg a </a:t>
            </a:r>
            <a:r>
              <a:rPr b="1" lang="en-US" sz="3200" spc="-1" strike="noStrike">
                <a:solidFill>
                  <a:srgbClr val="000000"/>
                </a:solidFill>
                <a:latin typeface="Times New Roman"/>
                <a:ea typeface="Times New Roman"/>
              </a:rPr>
              <a:t>helyi adót</a:t>
            </a:r>
            <a:r>
              <a:rPr b="0" lang="en-US" sz="3200" spc="-1" strike="noStrike">
                <a:solidFill>
                  <a:srgbClr val="000000"/>
                </a:solidFill>
                <a:latin typeface="Times New Roman"/>
                <a:ea typeface="Times New Roman"/>
              </a:rPr>
              <a:t> - a vállalkozók kommunális adója, az iparűzési és az idegenforgalmi adó kivételével -, valamint a </a:t>
            </a:r>
            <a:r>
              <a:rPr b="1" lang="en-US" sz="3200" spc="-1" strike="noStrike">
                <a:solidFill>
                  <a:srgbClr val="000000"/>
                </a:solidFill>
                <a:latin typeface="Times New Roman"/>
                <a:ea typeface="Times New Roman"/>
              </a:rPr>
              <a:t>gépjárműadót</a:t>
            </a:r>
            <a:r>
              <a:rPr b="0" lang="en-US" sz="3200" spc="-1" strike="noStrike">
                <a:solidFill>
                  <a:srgbClr val="000000"/>
                </a:solidFill>
                <a:latin typeface="Times New Roman"/>
                <a:ea typeface="Times New Roman"/>
              </a:rPr>
              <a:t>. Az adókivetés </a:t>
            </a:r>
            <a:r>
              <a:rPr b="1" lang="en-US" sz="3200" spc="-1" strike="noStrike">
                <a:solidFill>
                  <a:srgbClr val="000000"/>
                </a:solidFill>
                <a:latin typeface="Times New Roman"/>
                <a:ea typeface="Times New Roman"/>
              </a:rPr>
              <a:t>bevallás</a:t>
            </a:r>
            <a:r>
              <a:rPr b="0"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lapján</a:t>
            </a:r>
            <a:r>
              <a:rPr b="0" lang="en-US" sz="3200" spc="-1" strike="noStrike">
                <a:solidFill>
                  <a:srgbClr val="000000"/>
                </a:solidFill>
                <a:latin typeface="Times New Roman"/>
                <a:ea typeface="Times New Roman"/>
              </a:rPr>
              <a:t> történi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kiszabá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 </a:t>
            </a:r>
            <a:r>
              <a:rPr b="1" lang="en-US" sz="3200" spc="-1" strike="noStrike">
                <a:solidFill>
                  <a:srgbClr val="000000"/>
                </a:solidFill>
                <a:latin typeface="Times New Roman"/>
                <a:ea typeface="Times New Roman"/>
              </a:rPr>
              <a:t>vagyonszerzési illetéket</a:t>
            </a:r>
            <a:r>
              <a:rPr b="0" lang="en-US" sz="3200" spc="-1" strike="noStrike">
                <a:solidFill>
                  <a:srgbClr val="000000"/>
                </a:solidFill>
                <a:latin typeface="Times New Roman"/>
                <a:ea typeface="Times New Roman"/>
              </a:rPr>
              <a:t>, és az illetéktörvény szerint </a:t>
            </a:r>
            <a:r>
              <a:rPr b="1" lang="en-US" sz="3200" spc="-1" strike="noStrike">
                <a:solidFill>
                  <a:srgbClr val="000000"/>
                </a:solidFill>
                <a:latin typeface="Times New Roman"/>
                <a:ea typeface="Times New Roman"/>
              </a:rPr>
              <a:t>kiszabás alapján fizetendő eljárási illetéket </a:t>
            </a:r>
            <a:r>
              <a:rPr b="0" lang="en-US" sz="3200" spc="-1" strike="noStrike">
                <a:solidFill>
                  <a:srgbClr val="000000"/>
                </a:solidFill>
                <a:latin typeface="Times New Roman"/>
                <a:ea typeface="Times New Roman"/>
              </a:rPr>
              <a:t>az </a:t>
            </a:r>
            <a:r>
              <a:rPr b="1" lang="en-US" sz="3200" spc="-1" strike="noStrike">
                <a:solidFill>
                  <a:srgbClr val="000000"/>
                </a:solidFill>
                <a:latin typeface="Times New Roman"/>
                <a:ea typeface="Times New Roman"/>
              </a:rPr>
              <a:t>illetékhivatal</a:t>
            </a:r>
            <a:r>
              <a:rPr b="0" lang="en-US" sz="3200" spc="-1" strike="noStrike">
                <a:solidFill>
                  <a:srgbClr val="000000"/>
                </a:solidFill>
                <a:latin typeface="Times New Roman"/>
                <a:ea typeface="Times New Roman"/>
              </a:rPr>
              <a:t> állapítja meg. A kiszabás </a:t>
            </a:r>
            <a:r>
              <a:rPr b="1" lang="en-US" sz="3200" spc="-1" strike="noStrike">
                <a:solidFill>
                  <a:srgbClr val="000000"/>
                </a:solidFill>
                <a:latin typeface="Times New Roman"/>
                <a:ea typeface="Times New Roman"/>
              </a:rPr>
              <a:t>bejelentés alapján</a:t>
            </a:r>
            <a:r>
              <a:rPr b="0" lang="en-US" sz="3200" spc="-1" strike="noStrike">
                <a:solidFill>
                  <a:srgbClr val="000000"/>
                </a:solidFill>
                <a:latin typeface="Times New Roman"/>
                <a:ea typeface="Times New Roman"/>
              </a:rPr>
              <a:t> történi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beszedés</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törvényben meghatározott esetben az </a:t>
            </a:r>
            <a:r>
              <a:rPr b="1" lang="en-US" sz="2800" spc="-1" strike="noStrike">
                <a:solidFill>
                  <a:srgbClr val="000000"/>
                </a:solidFill>
                <a:latin typeface="Times New Roman"/>
                <a:ea typeface="Times New Roman"/>
              </a:rPr>
              <a:t>adóbeszedésre kötelezett adózó a helyi adó összegét közli a magánszeméllyel és az adót átveszi, majd ezt követően az önkormányzati adóhatóság részére befizeti</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hatályos szabályozás szerint jelenleg egyedül </a:t>
            </a:r>
            <a:r>
              <a:rPr b="1" lang="en-US" sz="2800" spc="-1" strike="noStrike">
                <a:solidFill>
                  <a:srgbClr val="000000"/>
                </a:solidFill>
                <a:latin typeface="Times New Roman"/>
                <a:ea typeface="Times New Roman"/>
              </a:rPr>
              <a:t>a helyi idegenforgalmi adó </a:t>
            </a:r>
            <a:r>
              <a:rPr b="0" lang="en-US" sz="2800" spc="-1" strike="noStrike">
                <a:solidFill>
                  <a:srgbClr val="000000"/>
                </a:solidFill>
                <a:latin typeface="Times New Roman"/>
                <a:ea typeface="Times New Roman"/>
              </a:rPr>
              <a:t>megállapítása történik adóbeszedéssel.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Times New Roman"/>
              </a:rPr>
              <a:t>Feltételes adómegállapítá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ea typeface="Times New Roman"/>
              </a:rPr>
              <a:t>A </a:t>
            </a:r>
            <a:r>
              <a:rPr b="1" lang="hu-HU" sz="2800" spc="-1" strike="noStrike">
                <a:solidFill>
                  <a:srgbClr val="000000"/>
                </a:solidFill>
                <a:latin typeface="Times New Roman"/>
                <a:ea typeface="Times New Roman"/>
              </a:rPr>
              <a:t>Pénzügyminisztérium</a:t>
            </a:r>
            <a:r>
              <a:rPr b="1" lang="hu-HU" sz="2800" spc="-1" strike="noStrike" u="sng">
                <a:solidFill>
                  <a:srgbClr val="ccccff"/>
                </a:solidFill>
                <a:uFillTx/>
                <a:latin typeface="Times New Roman"/>
                <a:ea typeface="Times New Roman"/>
                <a:hlinkClick r:id="rId1" action="ppaction://hlinksldjump"/>
              </a:rPr>
              <a:t>[1]</a:t>
            </a:r>
            <a:r>
              <a:rPr b="0" lang="hu-HU" sz="2800" spc="-1" strike="noStrike">
                <a:solidFill>
                  <a:srgbClr val="000000"/>
                </a:solidFill>
                <a:latin typeface="Times New Roman"/>
                <a:ea typeface="Times New Roman"/>
              </a:rPr>
              <a:t> az </a:t>
            </a:r>
            <a:r>
              <a:rPr b="1" lang="hu-HU" sz="2800" spc="-1" strike="noStrike">
                <a:solidFill>
                  <a:srgbClr val="000000"/>
                </a:solidFill>
                <a:latin typeface="Times New Roman"/>
                <a:ea typeface="Times New Roman"/>
              </a:rPr>
              <a:t>adózó kérelmére</a:t>
            </a:r>
            <a:r>
              <a:rPr b="0" lang="hu-HU" sz="2800" spc="-1" strike="noStrike">
                <a:solidFill>
                  <a:srgbClr val="000000"/>
                </a:solidFill>
                <a:latin typeface="Times New Roman"/>
                <a:ea typeface="Times New Roman"/>
              </a:rPr>
              <a:t> az általa közölt - jövőben megkötendő szerződésre vagy más jogügyletre vonatkozó - </a:t>
            </a:r>
            <a:r>
              <a:rPr b="1" lang="hu-HU" sz="2800" spc="-1" strike="noStrike">
                <a:solidFill>
                  <a:srgbClr val="000000"/>
                </a:solidFill>
                <a:latin typeface="Times New Roman"/>
                <a:ea typeface="Times New Roman"/>
              </a:rPr>
              <a:t>részletes tényállás alapján</a:t>
            </a:r>
            <a:r>
              <a:rPr b="0" lang="hu-HU" sz="2800" spc="-1" strike="noStrike">
                <a:solidFill>
                  <a:srgbClr val="000000"/>
                </a:solidFill>
                <a:latin typeface="Times New Roman"/>
                <a:ea typeface="Times New Roman"/>
              </a:rPr>
              <a:t> megállapítja az adókötelezettséget vagy annak hiányát, és amennyiben lehetséges, az adóalapot és az adót. A feltételes adómegállapítás az </a:t>
            </a:r>
            <a:r>
              <a:rPr b="1" lang="hu-HU" sz="2800" spc="-1" strike="noStrike">
                <a:solidFill>
                  <a:srgbClr val="000000"/>
                </a:solidFill>
                <a:latin typeface="Times New Roman"/>
                <a:ea typeface="Times New Roman"/>
              </a:rPr>
              <a:t>adóhatóságra csak változatlan tényállás és változatlan jogszabályi környezet mellett, az adott ügyben kötelező</a:t>
            </a:r>
            <a:r>
              <a:rPr b="0" lang="hu-HU"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bevallás</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bevallás az adózó azonosításához, az adóalap, a mentességek, a kedvezmények, az adó, a költségvetési támogatás alapja és összege megállapításához szükséges adatokat tartalmazza.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zó az önadózással megállapított adóról - az eljárási illeték kivételével -, továbbá költségvetési támogatásról adónként, költségvetési támogatásonként az erre a célra rendszeresített nyomtatványon adóbevallást tesz.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zó az állami adóhatósághoz az erre a célra rendszeresített nyomtatványon abban az esetben is adóbevallást nyújt be, ha a bevallási időszakban adófizetési kötelezettsége nem keletkezett.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 megfizetése az adóbevallást nem pótolja.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ellenőrzés megkezdését követően a vizsgálat alá vont adó- és költségvetési támogatás vonatkozásában a be nem nyújtott adóbevallás nem pótolható.</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fizeté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adófizetés az adóalany, illetve meghatározott esetekben az adózó főkötelezettsége.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adót az esedékességekor az köteles megfizetni, akit arra jogszabály kötelez.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levont adót, adóelőleget annak kell megfizetnie, aki azt levonta. </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beszedett adót az adóbeszedésre kötelezett fizeti me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fizetésre kötelezett</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fontScale="99000"/>
          </a:bodyPr>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ea typeface="Times New Roman"/>
              </a:rPr>
              <a:t>Ha az adózó az esedékes adót nem fizette meg és azt tőle nem lehet behajtani, az adó megfizetésére határozattal kötelezhető:</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a) az adózó örököse az örökrésze erejéig,</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b) a megajándékozott, az adózó által az adókötelezettsége keletkezését követően okirattal juttatott ajándék erejéig,</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c) az adózó jogutódja, </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d) a kezességet vállaló és az adótartozást átvállaló a jóváhagyott szerződésben foglalt adó tekintetében,</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e) az adóbevétel csökkentésével kapcsolatos bűncselekmény elkövetője az azzal összefüggő adó tekintetében,</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f) a gazdasági társaság adótartozásáért a rá vonatkozó szabályok szerint a helytállni köteles tag, vezető tisztségviselő, illetve szervezet, a jogi személy felelősségvállalásával működő vállalkozó esetében a felelősségvállaló, továbbá az a személy, aki a vállalkozás kötelezettségeiért törvény alapján felel,</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g) a társasház, társasüdülő, társasgarázs, építőközösség adótartozása tekintetében a tulajdonostársak,</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h) a vagyontárgy minden tulajdonosa a közös tulajdont terhelő adó tekintetében,</a:t>
            </a:r>
            <a:endParaRPr b="0" lang="en-US" sz="1700" spc="-1" strike="noStrike">
              <a:solidFill>
                <a:srgbClr val="000000"/>
              </a:solidFill>
              <a:latin typeface="Times New Roman"/>
            </a:endParaRPr>
          </a:p>
          <a:p>
            <a:pPr marL="3394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Times New Roman"/>
              </a:rPr>
              <a:t>	</a:t>
            </a:r>
            <a:r>
              <a:rPr b="0" lang="hu-HU" sz="1700" spc="-1" strike="noStrike">
                <a:solidFill>
                  <a:srgbClr val="000000"/>
                </a:solidFill>
                <a:latin typeface="Times New Roman"/>
                <a:ea typeface="Times New Roman"/>
              </a:rPr>
              <a:t>i) a szülői felügyelet alatt álló kiskorú gyermek adótartozásáért - a munkakeresményéből eredő adótartozás kivételével - a szülői felügyeletet gyakorló szülő az általa kezelt vagyon erejéi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zességvállalás az adó megfizetésér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 megfizetéséért kezességet lehet vállalni, illetve az adótartozást más átvállalhatja, amelynek során az adóhatóság követelésének jogcíme nem változik meg.</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kezesség vállalása és a tartozás átvállalása az adóhatóság jóváhagyásával válik érvényessé. Az adóhatóság a jóváhagyást megtagadja, ha az adótartozás megfizetése a kezes, illetve a tartozást átvállaló személyében nem biztosítot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tartozás átvállalásához az adóhatóság azzal a feltétellel járulhat hozzá, ha az eredetileg kötelezett adózó az átvállalt tartozásért kezességet váll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ókötelezettségek</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z adózó az adó és a költségvetési támogatás megállapítása, megfizetése (kiutalása) érdekében köteles az adójogszabályokban előírt:</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 bejelentésre, nyilatkozattétel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b)</a:t>
            </a:r>
            <a:r>
              <a:rPr b="0" lang="hu-HU" sz="2000" spc="-1" strike="noStrike">
                <a:solidFill>
                  <a:srgbClr val="000000"/>
                </a:solidFill>
                <a:latin typeface="Times New Roman"/>
              </a:rPr>
              <a:t> </a:t>
            </a:r>
            <a:r>
              <a:rPr b="0" lang="hu-HU" sz="2000" spc="-1" strike="noStrike">
                <a:solidFill>
                  <a:srgbClr val="000000"/>
                </a:solidFill>
                <a:latin typeface="Times New Roman"/>
                <a:ea typeface="Times New Roman"/>
              </a:rPr>
              <a:t>adómegállapításra (önadózás, a munkáltató, a kifizető adómegállapítás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c) bevallásr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d) adófizetésre és adóelőleg fizetésé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e) bizonylat kiállítására és megőrzésé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f) nyilvántartás vezetésére (könyvvezetés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g) adatszolgáltatásr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h) adólevonásra, adóbeszedés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fizetés módja</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fizetési kötelezettséget a pénzforgalmi bankszámlával rendelkező adózónak belföldi pénzforgalmi bankszámlájáról átutalással, pénzforgalmi bankszámlával nem rendelkező adózónak belföldi postautalvánnyal vagy belföldi bankszámlájáról történő átutalással kell teljesítenie.</a:t>
            </a: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Jogszabály az illeték és az önkormányzati adóhatóság hatáskörébe tartozó adó tekintetében más fizetési módot is megjelölhet (pl. az eljárási illetékeket illetékbélyeggel kell fizetni).</a:t>
            </a: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fizetési kötelezettség forintban teljesíthető, a költségvetési támogatás forintban utalható ki.</a:t>
            </a:r>
            <a:endParaRPr b="0" lang="en-US" sz="2000" spc="-1" strike="noStrike">
              <a:solidFill>
                <a:srgbClr val="000000"/>
              </a:solidFill>
              <a:latin typeface="Times New Roman"/>
            </a:endParaRPr>
          </a:p>
          <a:p>
            <a:pPr marL="329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hatóság által nyilvántartott adót az adózónak adónként, a megfelelő adószámlára kell megfizetnie, illetve a költségvetési támogatást támogatásonként, a megfelelő számláról kell visszaigényelni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yilvántartások vezetése</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A jogszabályban előírt bizonylatot, könyvet, nyilvántartást úgy kell kiállítani, illetve vezetni, hogy az az adó </a:t>
            </a:r>
            <a:r>
              <a:rPr b="1" lang="hu-HU" sz="1800" spc="-1" strike="noStrike">
                <a:solidFill>
                  <a:srgbClr val="000000"/>
                </a:solidFill>
                <a:latin typeface="Times New Roman"/>
                <a:ea typeface="Times New Roman"/>
              </a:rPr>
              <a:t>alapjának</a:t>
            </a:r>
            <a:r>
              <a:rPr b="0" lang="hu-HU" sz="1800" spc="-1" strike="noStrike">
                <a:solidFill>
                  <a:srgbClr val="000000"/>
                </a:solidFill>
                <a:latin typeface="Times New Roman"/>
                <a:ea typeface="Times New Roman"/>
              </a:rPr>
              <a:t>, az adó </a:t>
            </a:r>
            <a:r>
              <a:rPr b="1" lang="hu-HU" sz="1800" spc="-1" strike="noStrike">
                <a:solidFill>
                  <a:srgbClr val="000000"/>
                </a:solidFill>
                <a:latin typeface="Times New Roman"/>
                <a:ea typeface="Times New Roman"/>
              </a:rPr>
              <a:t>összegének</a:t>
            </a:r>
            <a:r>
              <a:rPr b="0" lang="hu-HU" sz="1800" spc="-1" strike="noStrike">
                <a:solidFill>
                  <a:srgbClr val="000000"/>
                </a:solidFill>
                <a:latin typeface="Times New Roman"/>
                <a:ea typeface="Times New Roman"/>
              </a:rPr>
              <a:t>, a </a:t>
            </a:r>
            <a:r>
              <a:rPr b="1" lang="hu-HU" sz="1800" spc="-1" strike="noStrike">
                <a:solidFill>
                  <a:srgbClr val="000000"/>
                </a:solidFill>
                <a:latin typeface="Times New Roman"/>
                <a:ea typeface="Times New Roman"/>
              </a:rPr>
              <a:t>mentességnek</a:t>
            </a:r>
            <a:r>
              <a:rPr b="0" lang="hu-HU" sz="1800" spc="-1" strike="noStrike">
                <a:solidFill>
                  <a:srgbClr val="000000"/>
                </a:solidFill>
                <a:latin typeface="Times New Roman"/>
                <a:ea typeface="Times New Roman"/>
              </a:rPr>
              <a:t>, a </a:t>
            </a:r>
            <a:r>
              <a:rPr b="1" lang="hu-HU" sz="1800" spc="-1" strike="noStrike">
                <a:solidFill>
                  <a:srgbClr val="000000"/>
                </a:solidFill>
                <a:latin typeface="Times New Roman"/>
                <a:ea typeface="Times New Roman"/>
              </a:rPr>
              <a:t>kedvezménynek</a:t>
            </a:r>
            <a:r>
              <a:rPr b="0" lang="hu-HU" sz="1800" spc="-1" strike="noStrike">
                <a:solidFill>
                  <a:srgbClr val="000000"/>
                </a:solidFill>
                <a:latin typeface="Times New Roman"/>
                <a:ea typeface="Times New Roman"/>
              </a:rPr>
              <a:t>, a költségvetési támogatás alapjának és összegének, továbbá ezek </a:t>
            </a:r>
            <a:r>
              <a:rPr b="1" lang="hu-HU" sz="1800" spc="-1" strike="noStrike">
                <a:solidFill>
                  <a:srgbClr val="000000"/>
                </a:solidFill>
                <a:latin typeface="Times New Roman"/>
                <a:ea typeface="Times New Roman"/>
              </a:rPr>
              <a:t>megfizetésének</a:t>
            </a:r>
            <a:r>
              <a:rPr b="0" lang="hu-HU" sz="1800" spc="-1" strike="noStrike">
                <a:solidFill>
                  <a:srgbClr val="000000"/>
                </a:solidFill>
                <a:latin typeface="Times New Roman"/>
                <a:ea typeface="Times New Roman"/>
              </a:rPr>
              <a:t>, illetve </a:t>
            </a:r>
            <a:r>
              <a:rPr b="1" lang="hu-HU" sz="1800" spc="-1" strike="noStrike">
                <a:solidFill>
                  <a:srgbClr val="000000"/>
                </a:solidFill>
                <a:latin typeface="Times New Roman"/>
                <a:ea typeface="Times New Roman"/>
              </a:rPr>
              <a:t>igénybevételének</a:t>
            </a:r>
            <a:r>
              <a:rPr b="0" lang="hu-HU" sz="1800" spc="-1" strike="noStrike">
                <a:solidFill>
                  <a:srgbClr val="000000"/>
                </a:solidFill>
                <a:latin typeface="Times New Roman"/>
                <a:ea typeface="Times New Roman"/>
              </a:rPr>
              <a:t> </a:t>
            </a:r>
            <a:r>
              <a:rPr b="1" lang="hu-HU" sz="1800" spc="-1" strike="noStrike">
                <a:solidFill>
                  <a:srgbClr val="000000"/>
                </a:solidFill>
                <a:latin typeface="Times New Roman"/>
                <a:ea typeface="Times New Roman"/>
              </a:rPr>
              <a:t>megállapítására</a:t>
            </a:r>
            <a:r>
              <a:rPr b="0" lang="hu-HU" sz="1800" spc="-1" strike="noStrike">
                <a:solidFill>
                  <a:srgbClr val="000000"/>
                </a:solidFill>
                <a:latin typeface="Times New Roman"/>
                <a:ea typeface="Times New Roman"/>
              </a:rPr>
              <a:t>, ellenőrzésére </a:t>
            </a:r>
            <a:r>
              <a:rPr b="1" lang="hu-HU" sz="1800" spc="-1" strike="noStrike">
                <a:solidFill>
                  <a:srgbClr val="000000"/>
                </a:solidFill>
                <a:latin typeface="Times New Roman"/>
                <a:ea typeface="Times New Roman"/>
              </a:rPr>
              <a:t>alkalmas legyen</a:t>
            </a:r>
            <a:r>
              <a:rPr b="0" lang="hu-HU"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ea typeface="Times New Roman"/>
              </a:rPr>
              <a:t>A könyveket, nyilvántartásokat úgy kell vezetni, hogy</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a) a bennük foglalt</a:t>
            </a:r>
            <a:r>
              <a:rPr b="0" lang="hu-HU" sz="1800" spc="-1" strike="noStrike">
                <a:solidFill>
                  <a:srgbClr val="000000"/>
                </a:solidFill>
                <a:latin typeface="Times New Roman"/>
              </a:rPr>
              <a:t>ak</a:t>
            </a:r>
            <a:r>
              <a:rPr b="0" lang="hu-HU" sz="1800" spc="-1" strike="noStrike">
                <a:solidFill>
                  <a:srgbClr val="000000"/>
                </a:solidFill>
                <a:latin typeface="Times New Roman"/>
                <a:ea typeface="Times New Roman"/>
              </a:rPr>
              <a:t> </a:t>
            </a:r>
            <a:r>
              <a:rPr b="0" lang="hu-HU" sz="1800" spc="-1" strike="noStrike">
                <a:solidFill>
                  <a:srgbClr val="000000"/>
                </a:solidFill>
                <a:latin typeface="Times New Roman"/>
              </a:rPr>
              <a:t>a</a:t>
            </a:r>
            <a:r>
              <a:rPr b="0" lang="hu-HU" sz="1800" spc="-1" strike="noStrike">
                <a:solidFill>
                  <a:srgbClr val="000000"/>
                </a:solidFill>
                <a:latin typeface="Times New Roman"/>
                <a:ea typeface="Times New Roman"/>
              </a:rPr>
              <a:t>z Art., illetve a számvitel bizonylati rendjére vonatkozó szabály</a:t>
            </a:r>
            <a:r>
              <a:rPr b="0" lang="hu-HU" sz="1800" spc="-1" strike="noStrike">
                <a:solidFill>
                  <a:srgbClr val="000000"/>
                </a:solidFill>
                <a:latin typeface="Times New Roman"/>
              </a:rPr>
              <a:t>ai</a:t>
            </a:r>
            <a:r>
              <a:rPr b="0" lang="hu-HU" sz="1800" spc="-1" strike="noStrike">
                <a:solidFill>
                  <a:srgbClr val="000000"/>
                </a:solidFill>
                <a:latin typeface="Times New Roman"/>
                <a:ea typeface="Times New Roman"/>
              </a:rPr>
              <a:t>kban előírt bizonylatokon alapuljanak,</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b) adónként és költségvetési támogatásonként folyamatosanl tartalmazzák az adót, illetve költségvetési támogatást meghatározó adatokat és azok bizonylati hivatkozásait,</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c) azokból kitűnjék az adott időszakra vonatkozó bevallott adó, illetve támogatás alapja,</a:t>
            </a: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d) az adó megfizetésének, a költségvetési támogatás igénybevételének, </a:t>
            </a:r>
            <a:r>
              <a:rPr b="0" lang="hu-HU" sz="1800" spc="-1" strike="noStrike">
                <a:solidFill>
                  <a:srgbClr val="000000"/>
                </a:solidFill>
                <a:latin typeface="Times New Roman"/>
              </a:rPr>
              <a:t>és</a:t>
            </a:r>
            <a:r>
              <a:rPr b="0" lang="hu-HU" sz="1800" spc="-1" strike="noStrike">
                <a:solidFill>
                  <a:srgbClr val="000000"/>
                </a:solidFill>
                <a:latin typeface="Times New Roman"/>
                <a:ea typeface="Times New Roman"/>
              </a:rPr>
              <a:t> az alapul szolgáló bizonylatoknak az ellenőrzését lehetővé tegyé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yilatkozattétel és tanúvallomá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z adóhatóság az adózót a vele szerződéses kapcsolatban állt vagy álló adózók adókötelezettségének megállapítása </a:t>
            </a:r>
            <a:r>
              <a:rPr b="0" lang="en-US" sz="2200" spc="-1" strike="noStrike">
                <a:solidFill>
                  <a:srgbClr val="000000"/>
                </a:solidFill>
                <a:latin typeface="Times New Roman"/>
              </a:rPr>
              <a:t>és</a:t>
            </a:r>
            <a:r>
              <a:rPr b="0" lang="en-US" sz="2200" spc="-1" strike="noStrike">
                <a:solidFill>
                  <a:srgbClr val="000000"/>
                </a:solidFill>
                <a:latin typeface="Times New Roman"/>
                <a:ea typeface="Times New Roman"/>
              </a:rPr>
              <a:t> ellenőrzése érdekében, nyilatkozattételre kötelezheti az általa ismert, </a:t>
            </a:r>
            <a:r>
              <a:rPr b="0" lang="en-US" sz="2200" spc="-1" strike="noStrike">
                <a:solidFill>
                  <a:srgbClr val="000000"/>
                </a:solidFill>
                <a:latin typeface="Times New Roman"/>
              </a:rPr>
              <a:t>vagy</a:t>
            </a:r>
            <a:r>
              <a:rPr b="0" lang="en-US" sz="2200" spc="-1" strike="noStrike">
                <a:solidFill>
                  <a:srgbClr val="000000"/>
                </a:solidFill>
                <a:latin typeface="Times New Roman"/>
                <a:ea typeface="Times New Roman"/>
              </a:rPr>
              <a:t> nyilvántartásában szereplő adatról, tényről, körülményről.</a:t>
            </a:r>
            <a:endParaRPr b="0" lang="en-US" sz="2200" spc="-1" strike="noStrike">
              <a:solidFill>
                <a:srgbClr val="000000"/>
              </a:solidFill>
              <a:latin typeface="Times New Roman"/>
            </a:endParaRPr>
          </a:p>
          <a:p>
            <a:pPr marL="33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magánszemély, az általa ismert olyan adatról, tényről, körülményről, amely a vele szerződéses kapcsolatban állt vagy álló adózó adókötelezettségének, adóalapjának, adókedvezményének, adójának megállapítását, illetve ellenőrzését teszi lehetővé, az adóhatóság felhívására köteles tanúvallomást tenni.</a:t>
            </a:r>
            <a:endParaRPr b="0" lang="en-US" sz="2200" spc="-1" strike="noStrike">
              <a:solidFill>
                <a:srgbClr val="000000"/>
              </a:solidFill>
              <a:latin typeface="Times New Roman"/>
            </a:endParaRPr>
          </a:p>
          <a:p>
            <a:pPr marL="33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nyilatkozattétel megtagadható, ha az adózó vagy a magánszemély az eljárásban tanúként nem lenne meghallgatható, vagy a tanúvallomást megtagadhatná.</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hatóságok</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a) az Adó- és Pénzügyi Ellenőrzési Hivatal (APEH) és szerve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b) a Vám- és Pénzügyőrség Országos Parancsnoksága (VPOP) és szervei,</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c) az önkormányzat jegyzője (önkormányzati adóhatóság),</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d) az Illetékhivat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z Adó- és Pénzügyi Ellenőrzési Hivatal</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 a költségvetési támogatás és a jogszabály alapján a központi költségvetés terhére garanciavállalás címén kifizetett tartozások behajtása ügyében első fokon főszabályként az APEH területi szerve, mint első fokú állami adóhatóság jár el.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PEH hatáskörébe tartozik</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z általános forgalmi adó,</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fogyasztási adó,</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játékadó,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személyi jövedelemadó,</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társasági adó,</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z osztalékadó, </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társadalombiztosítási befizetések és</a:t>
            </a:r>
            <a:endParaRPr b="0" lang="en-US" sz="2000" spc="-1" strike="noStrike">
              <a:solidFill>
                <a:srgbClr val="000000"/>
              </a:solidFill>
              <a:latin typeface="Times New Roman"/>
            </a:endParaRPr>
          </a:p>
          <a:p>
            <a:pPr marL="3358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z elkülönített állami pénzalapok számára </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történő befizetések </a:t>
            </a:r>
            <a:endParaRPr b="0" lang="en-US" sz="2000" spc="-1" strike="noStrike">
              <a:solidFill>
                <a:srgbClr val="000000"/>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szedése, illetve az ezekkel kapcsolatos kötelezettségek ellenőrzés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ám- és Pénzügyőrség</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ám- és Pénzügyőrség hatáskörébe tartozi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államhatáron </a:t>
            </a:r>
            <a:r>
              <a:rPr b="0" lang="en-US" sz="2800" spc="-1" strike="noStrike">
                <a:solidFill>
                  <a:srgbClr val="000000"/>
                </a:solidFill>
                <a:latin typeface="Times New Roman"/>
              </a:rPr>
              <a:t>(vámhatáron) </a:t>
            </a:r>
            <a:r>
              <a:rPr b="0" lang="en-US" sz="2800" spc="-1" strike="noStrike">
                <a:solidFill>
                  <a:srgbClr val="000000"/>
                </a:solidFill>
                <a:latin typeface="Times New Roman"/>
                <a:ea typeface="Times New Roman"/>
              </a:rPr>
              <a:t>át lebonyolódó áru- és utasforgalom vámellenőrzés</a:t>
            </a:r>
            <a:r>
              <a:rPr b="0" lang="en-US" sz="2800" spc="-1" strike="noStrike">
                <a:solidFill>
                  <a:srgbClr val="000000"/>
                </a:solidFill>
                <a:latin typeface="Times New Roman"/>
              </a:rPr>
              <a:t>e</a:t>
            </a:r>
            <a:r>
              <a:rPr b="0" lang="en-US" sz="2800" spc="-1" strike="noStrike">
                <a:solidFill>
                  <a:srgbClr val="000000"/>
                </a:solidFill>
                <a:latin typeface="Times New Roman"/>
                <a:ea typeface="Times New Roman"/>
              </a:rPr>
              <a:t>, a vámterhek és egyéb közterhek </a:t>
            </a:r>
            <a:r>
              <a:rPr b="0" lang="en-US" sz="2800" spc="-1" strike="noStrike">
                <a:solidFill>
                  <a:srgbClr val="000000"/>
                </a:solidFill>
                <a:latin typeface="Times New Roman"/>
              </a:rPr>
              <a:t>(pl. termékimportot terhelő áfa) </a:t>
            </a:r>
            <a:r>
              <a:rPr b="0" lang="en-US" sz="2800" spc="-1" strike="noStrike">
                <a:solidFill>
                  <a:srgbClr val="000000"/>
                </a:solidFill>
                <a:latin typeface="Times New Roman"/>
                <a:ea typeface="Times New Roman"/>
              </a:rPr>
              <a:t>kiszabás</a:t>
            </a:r>
            <a:r>
              <a:rPr b="0" lang="en-US" sz="2800" spc="-1" strike="noStrike">
                <a:solidFill>
                  <a:srgbClr val="000000"/>
                </a:solidFill>
                <a:latin typeface="Times New Roman"/>
              </a:rPr>
              <a:t>a</a:t>
            </a:r>
            <a:r>
              <a:rPr b="0" lang="en-US" sz="2800" spc="-1" strike="noStrike">
                <a:solidFill>
                  <a:srgbClr val="000000"/>
                </a:solidFill>
                <a:latin typeface="Times New Roman"/>
                <a:ea typeface="Times New Roman"/>
              </a:rPr>
              <a:t> és beszedés</a:t>
            </a:r>
            <a:r>
              <a:rPr b="0" lang="en-US" sz="2800" spc="-1" strike="noStrike">
                <a:solidFill>
                  <a:srgbClr val="000000"/>
                </a:solidFill>
                <a:latin typeface="Times New Roman"/>
              </a:rPr>
              <a:t>e,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jövedéki </a:t>
            </a:r>
            <a:r>
              <a:rPr b="0" lang="en-US" sz="2800" spc="-1" strike="noStrike">
                <a:solidFill>
                  <a:srgbClr val="000000"/>
                </a:solidFill>
                <a:latin typeface="Times New Roman"/>
              </a:rPr>
              <a:t>adóztatással kapcsolatos</a:t>
            </a:r>
            <a:r>
              <a:rPr b="0" lang="en-US" sz="2800" spc="-1" strike="noStrike">
                <a:solidFill>
                  <a:srgbClr val="000000"/>
                </a:solidFill>
                <a:latin typeface="Times New Roman"/>
                <a:ea typeface="Times New Roman"/>
              </a:rPr>
              <a:t> ellenőrzési, adóhatósági feladatok ellátás</a:t>
            </a:r>
            <a:r>
              <a:rPr b="0" lang="en-US" sz="2800" spc="-1" strike="noStrike">
                <a:solidFill>
                  <a:srgbClr val="000000"/>
                </a:solidFill>
                <a:latin typeface="Times New Roman"/>
              </a:rPr>
              <a: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illetékhivatalok</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illetékhivatal a megyei önkormányzat mellett működő adóhatóság, amely a vagyonszerzési és eljárási illetékekkel kapcsolatos hatósági feladatokat látja el.</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helyi önkormányzat jegyzőj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helyi önkormányzat jegyzőjének adóztatással kapcsolatos hatáskerörébe tartozi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helyi adókkal, valamin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gépjárműadóval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kapcsolatos adóztatási feladatok ellátás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ellenőrzés</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adóhatóság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adóbevétel megrövidítése, </a:t>
            </a:r>
            <a:endParaRPr b="0" lang="en-US" sz="2800" spc="-1" strike="noStrike">
              <a:solidFill>
                <a:srgbClr val="000000"/>
              </a:solidFill>
              <a:latin typeface="Times New Roman"/>
            </a:endParaRPr>
          </a:p>
          <a:p>
            <a:pPr marL="329040" indent="-3290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költségvetési támogatás, adó-visszaigénylés jogosulatlan igénybevételének megakadályozása érdekében </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ndszeresen ellenőrzi az adózókat és az adózásban részt vevő más személyeket. </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ellenőrzés célja az adótörvényekben és más jogszabályokban előírt kötelezettségek teljesítésének vagy megsértésének megállapítá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ellenőrzés fajtái</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hatóság az ellenőrzés céljá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 bevallások utólagos vizsgálatára irányuló,</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az állami garancia beváltásához kapcsolódó,</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az egyes adókötelezettségek teljesítésére irányuló,</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 az adatok gyűjtését célzó,</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 az illetékkötelezettségek teljesítésére vonatkozó,</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 az ellenőrzéssel lezárt időszakra vonatkozó ismétel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ellenőrzéssel valósítja meg.</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lenőrzéssel lezárt időszakot a bevallások utólagos vizsgálatára irányuló ellenőrzés terem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jelentés és bejelentkezé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szabályozás főbb pontj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általános szabály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z áfa-kötelzettség bejelentésére vonatkozó szabályo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változásbejelentés szabálya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 nyilvántartásba véte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ólagos ellenőrzés</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dóhatóság az adózó adómegállapítási, bevallási kötelezettsége teljesítését adónként, támogatásonként és időszakonként, vagy meghatározott időszakra több adó és támogatás tekintetében is vizsgálhatja. Az ellenőrzés megkezdéséig bevallani elmulasztott adót az adózó terhére, illetve javára adókülönbözetként állapítja meg.</a:t>
            </a:r>
            <a:endParaRPr b="0" lang="en-US" sz="2400" spc="-1" strike="noStrike">
              <a:solidFill>
                <a:srgbClr val="000000"/>
              </a:solidFill>
              <a:latin typeface="Times New Roman"/>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Ha a</a:t>
            </a:r>
            <a:r>
              <a:rPr b="0" lang="hu-HU" sz="2400" spc="-1" strike="noStrike">
                <a:solidFill>
                  <a:srgbClr val="000000"/>
                </a:solidFill>
                <a:latin typeface="Times New Roman"/>
              </a:rPr>
              <a:t>z adóhatóság azt tapasztalja, hogy az adózó nem vagy nem megfelelően tett elleget adókötelezettségeinek</a:t>
            </a:r>
            <a:r>
              <a:rPr b="0" lang="hu-HU" sz="2400" spc="-1" strike="noStrike">
                <a:solidFill>
                  <a:srgbClr val="000000"/>
                </a:solidFill>
                <a:latin typeface="Times New Roman"/>
                <a:ea typeface="Times New Roman"/>
              </a:rPr>
              <a:t> a megállapított tényállásról és az adókülönbözetről </a:t>
            </a:r>
            <a:r>
              <a:rPr b="0" lang="hu-HU" sz="2400" spc="-1" strike="noStrike">
                <a:solidFill>
                  <a:srgbClr val="000000"/>
                </a:solidFill>
                <a:latin typeface="Times New Roman"/>
              </a:rPr>
              <a:t>az </a:t>
            </a:r>
            <a:r>
              <a:rPr b="0" lang="hu-HU" sz="2400" spc="-1" strike="noStrike">
                <a:solidFill>
                  <a:srgbClr val="000000"/>
                </a:solidFill>
                <a:latin typeface="Times New Roman"/>
                <a:ea typeface="Times New Roman"/>
              </a:rPr>
              <a:t>jegyzőkönyv kézbesítésével értesíti, amelyre az adózó 8 napon belül észrevételt tehet. Ha az adózó 8 napon belül észrevételt nem tesz, az adóhatóság az adóigazgatási eljárást megindít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becslé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becslés olyan bizonyítási módszer, amely a törvényeknek megfelelő, a valós adó, illetve költségvetési támogatás alapját valószínűsíti.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ecslés alkalmazható</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a vagyonszerzési illeték alapjának megállapításánál,</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ha az adó, illetve a költségvetési támogatás alapja nem állapítható meg,</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ha az adóhatóság rendelkezésére álló, azok száma vagy tartalma miatt jelentősnek tekinthető adat, tény, körülmény alapján alaposan feltételezhető, hogy az adózó iratai nem alkalmasak a valós adó, illetve költségvetési támogatás alapjának megállapítására, vagy</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 ha a magánszemély valótlan, hiányos bevallást vagy nyilatkozatot tett, vagy a nyilatkozattételt elmulasztot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mételt ellenőrzés</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335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Times New Roman"/>
                <a:ea typeface="Times New Roman"/>
              </a:rPr>
              <a:t>Ellenőrzéssel lezárt bevallási időszak tekintetében az adó, költségvetési támogatás ismételt vizsgálatára kerülhet sor</a:t>
            </a:r>
            <a:endParaRPr b="0" lang="en-US" sz="2300" spc="-1" strike="noStrike">
              <a:solidFill>
                <a:srgbClr val="000000"/>
              </a:solidFill>
              <a:latin typeface="Times New Roman"/>
            </a:endParaRPr>
          </a:p>
          <a:p>
            <a:pPr marL="335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Times New Roman"/>
                <a:ea typeface="Times New Roman"/>
              </a:rPr>
              <a:t>- ha az első fokú adóhatóság a korábbi ellenőrzés megállapításának végrehajtását vizsgálja (utóellenőrzés),</a:t>
            </a:r>
            <a:endParaRPr b="0" lang="en-US" sz="2300" spc="-1" strike="noStrike">
              <a:solidFill>
                <a:srgbClr val="000000"/>
              </a:solidFill>
              <a:latin typeface="Times New Roman"/>
            </a:endParaRPr>
          </a:p>
          <a:p>
            <a:pPr marL="335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Times New Roman"/>
                <a:ea typeface="Times New Roman"/>
              </a:rPr>
              <a:t>- az adózó kérelmére, ha az adózó által feltárt új tény, körülmény tisztázása a korábbi ellenőrzés megállapításainak megváltoztatását eredményezné,</a:t>
            </a:r>
            <a:endParaRPr b="0" lang="en-US" sz="2300" spc="-1" strike="noStrike">
              <a:solidFill>
                <a:srgbClr val="000000"/>
              </a:solidFill>
              <a:latin typeface="Times New Roman"/>
            </a:endParaRPr>
          </a:p>
          <a:p>
            <a:pPr marL="335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Times New Roman"/>
                <a:ea typeface="Times New Roman"/>
              </a:rPr>
              <a:t>- az ellenőrzést a társadalombiztosítási igazgatási szerv megkeresésének teljesítése érdekében, illetőleg a magánnyugdíjpénztár megkeresésére soron kívül folytatja le, és az ismételt ellenőrzés eredménye ellátási jogosultságot teremt,</a:t>
            </a:r>
            <a:endParaRPr b="0" lang="en-US" sz="2300" spc="-1" strike="noStrike">
              <a:solidFill>
                <a:srgbClr val="000000"/>
              </a:solidFill>
              <a:latin typeface="Times New Roman"/>
            </a:endParaRPr>
          </a:p>
          <a:p>
            <a:pPr marL="3358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Times New Roman"/>
              </a:rPr>
              <a:t>- </a:t>
            </a:r>
            <a:r>
              <a:rPr b="0" lang="hu-HU" sz="2300" spc="-1" strike="noStrike">
                <a:solidFill>
                  <a:srgbClr val="000000"/>
                </a:solidFill>
                <a:latin typeface="Times New Roman"/>
                <a:ea typeface="Times New Roman"/>
              </a:rPr>
              <a:t>a felülellenőrzés keretében.</a:t>
            </a:r>
            <a:r>
              <a:rPr b="0" lang="hu-HU" sz="2300" spc="-1" strike="noStrike">
                <a:solidFill>
                  <a:srgbClr val="000000"/>
                </a:solidFill>
                <a:latin typeface="Times New Roman"/>
              </a:rPr>
              <a:t> </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felülellenőrzés</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ea typeface="Times New Roman"/>
              </a:rPr>
              <a:t>Az adómegállapításhoz való jog elévülésének határidején belül az adóhatóság az ellenőrzéssel lezárt bevallási időszak tekintetében ismételt ellenőrzést folytathat le, ha</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t>
            </a:r>
            <a:r>
              <a:rPr b="0" lang="hu-HU" sz="2000" spc="-1" strike="noStrike">
                <a:solidFill>
                  <a:srgbClr val="000000"/>
                </a:solidFill>
                <a:latin typeface="Times New Roman"/>
                <a:ea typeface="Times New Roman"/>
              </a:rPr>
              <a:t> az ellenőrzést a pénzügyminiszter vagy az Állami Számvevőszék elnöke, illetve az önkormányzati képviselő-testület határozata rendelte el, és a rendelkezésben szereplő időszakot az első fokú adóhatóság már ellenőrizte,</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t>
            </a:r>
            <a:r>
              <a:rPr b="0" lang="hu-HU" sz="2000" spc="-1" strike="noStrike">
                <a:solidFill>
                  <a:srgbClr val="000000"/>
                </a:solidFill>
                <a:latin typeface="Times New Roman"/>
                <a:ea typeface="Times New Roman"/>
              </a:rPr>
              <a:t> </a:t>
            </a:r>
            <a:r>
              <a:rPr b="0" lang="hu-HU" sz="2000" spc="-1" strike="noStrike">
                <a:solidFill>
                  <a:srgbClr val="000000"/>
                </a:solidFill>
                <a:latin typeface="Times New Roman"/>
              </a:rPr>
              <a:t>a</a:t>
            </a:r>
            <a:r>
              <a:rPr b="0" lang="hu-HU" sz="2000" spc="-1" strike="noStrike">
                <a:solidFill>
                  <a:srgbClr val="000000"/>
                </a:solidFill>
                <a:latin typeface="Times New Roman"/>
                <a:ea typeface="Times New Roman"/>
              </a:rPr>
              <a:t>z </a:t>
            </a:r>
            <a:r>
              <a:rPr b="0" lang="hu-HU" sz="2000" spc="-1" strike="noStrike">
                <a:solidFill>
                  <a:srgbClr val="000000"/>
                </a:solidFill>
                <a:latin typeface="Times New Roman"/>
              </a:rPr>
              <a:t>APEH</a:t>
            </a:r>
            <a:r>
              <a:rPr b="0" lang="hu-HU" sz="2000" spc="-1" strike="noStrike">
                <a:solidFill>
                  <a:srgbClr val="000000"/>
                </a:solidFill>
                <a:latin typeface="Times New Roman"/>
                <a:ea typeface="Times New Roman"/>
              </a:rPr>
              <a:t> elnöke, illetőleg a vámhatóság országos parancsnoka erre utasítást ad, amely alapján a felettes adóhatóság ellenőrzi az első fokú adóhatóság által korábban lefolytatott vizsgálat szakszerűségét és törvényességét,</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t>
            </a:r>
            <a:r>
              <a:rPr b="0" lang="hu-HU" sz="2000" spc="-1" strike="noStrike">
                <a:solidFill>
                  <a:srgbClr val="000000"/>
                </a:solidFill>
                <a:latin typeface="Times New Roman"/>
                <a:ea typeface="Times New Roman"/>
              </a:rPr>
              <a:t> ha az adóhatóság olyan, az adó megállapítását befolyásoló új tényről, adatról, bizonyítékról szerez tudomást, amely a korábbi ellenőrzéskor nem volt ismert, és az ellenőrzés lefolytatására az </a:t>
            </a:r>
            <a:r>
              <a:rPr b="0" lang="hu-HU" sz="2000" spc="-1" strike="noStrike">
                <a:solidFill>
                  <a:srgbClr val="000000"/>
                </a:solidFill>
                <a:latin typeface="Times New Roman"/>
              </a:rPr>
              <a:t>APEH</a:t>
            </a:r>
            <a:r>
              <a:rPr b="0" lang="hu-HU" sz="2000" spc="-1" strike="noStrike">
                <a:solidFill>
                  <a:srgbClr val="000000"/>
                </a:solidFill>
                <a:latin typeface="Times New Roman"/>
                <a:ea typeface="Times New Roman"/>
              </a:rPr>
              <a:t> elnöke, illetőleg a vámhatóság országos parancsnoka utasítást 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z egyes adókötelezettségek ellenőrzése</a:t>
            </a:r>
            <a:endParaRPr b="0" lang="en-US" sz="3600" spc="-1" strike="noStrike">
              <a:solidFill>
                <a:srgbClr val="000000"/>
              </a:solidFill>
              <a:latin typeface="Times New Roman"/>
            </a:endParaRPr>
          </a:p>
        </p:txBody>
      </p:sp>
      <p:sp>
        <p:nvSpPr>
          <p:cNvPr id="108" name="PlaceHolder 2"/>
          <p:cNvSpPr>
            <a:spLocks noGrp="1"/>
          </p:cNvSpPr>
          <p:nvPr>
            <p:ph/>
          </p:nvPr>
        </p:nvSpPr>
        <p:spPr>
          <a:xfrm>
            <a:off x="533160" y="1371600"/>
            <a:ext cx="8001000" cy="50292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hatóság elsősorban az adózónál fellelhető iratok vizsgálatával ellenőrzi, hogy az adózó eleget tett-e a törvényekben előírt egyes adókötelezettségeinek – különösen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bejelentésre,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evallásra,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atszolgáltatásra,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yilvántartásra,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izonylat kiállítására, megőrzésére,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önyvvezetésre, </a:t>
            </a:r>
            <a:endParaRPr b="0" lang="en-US" sz="2400" spc="-1" strike="noStrike">
              <a:solidFill>
                <a:srgbClr val="000000"/>
              </a:solidFill>
              <a:latin typeface="Times New Roman"/>
            </a:endParaRPr>
          </a:p>
          <a:p>
            <a:pPr lvl="1" marL="735480" indent="-28296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 adóelőleg levonására, beszedésére</a:t>
            </a:r>
            <a:endParaRPr b="0" lang="en-US" sz="2400" spc="-1" strike="noStrike">
              <a:solidFill>
                <a:srgbClr val="000000"/>
              </a:solidFill>
              <a:latin typeface="Times New Roman"/>
            </a:endParaRPr>
          </a:p>
          <a:p>
            <a:pPr marL="339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natkozó előírásoknak –, azokat határidőben, illetőleg az adó megállapítására, bevallására és megfizetésére alkalmas módon teljesíti-e.</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atgyűjtésre irányuló ellenőrzés</a:t>
            </a:r>
            <a:endParaRPr b="0" lang="en-US" sz="4400" spc="-1" strike="noStrike">
              <a:solidFill>
                <a:srgbClr val="000000"/>
              </a:solidFill>
              <a:latin typeface="Times New Roman"/>
            </a:endParaRPr>
          </a:p>
        </p:txBody>
      </p:sp>
      <p:sp>
        <p:nvSpPr>
          <p:cNvPr id="110" name="PlaceHolder 2"/>
          <p:cNvSpPr>
            <a:spLocks noGrp="1"/>
          </p:cNvSpPr>
          <p:nvPr>
            <p:ph/>
          </p:nvPr>
        </p:nvSpPr>
        <p:spPr>
          <a:xfrm>
            <a:off x="533520" y="1676160"/>
            <a:ext cx="8229600" cy="4647960"/>
          </a:xfrm>
          <a:prstGeom prst="rect">
            <a:avLst/>
          </a:prstGeom>
          <a:noFill/>
          <a:ln w="0">
            <a:noFill/>
          </a:ln>
        </p:spPr>
        <p:txBody>
          <a:bodyPr lIns="90000" rIns="90000" tIns="46800" bIns="46800" anchor="t">
            <a:normAutofit fontScale="99000"/>
          </a:bodyPr>
          <a:p>
            <a:pPr marL="33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ea typeface="Times New Roman"/>
              </a:rPr>
              <a:t>Az adóhatóság az adózó nyilvántartásában, bevallásában szereplő adatok, tények, körülmények valóságtartalmának, illetőleg ezek hitelességének megállapítása érdekében a bevallási időszak lezárását megelőzően is adatokat gyűjthet, vagy helyszíni ellenőrzést végezhet, amely keretében</a:t>
            </a:r>
            <a:endParaRPr b="0" lang="en-US" sz="22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 próbavásárlással a számla, nyugtaadási kötelezettség teljesítését,</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 leltározással az árukészletek, alapanyagok, félkész termékek eredetét, nyilvántartását,</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 a megrendelők köréről, a tapasztalható forgalmi viszonyokról, a vállalkozási tevékenységhez használt tárgyi eszközökről, a vállalkozásban részt vevő személyekről szóló jegyzőkönyv készítésével a vállalkozás körülményeit,</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 a vállalkozási tevékenységben résztvevők alkalmazásának jogszerűségét, társadalombiztosítási jogszabályokban a bejelentésükre vonatkozó kötelezettségének teljesítését,</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 az adózónál az adómegállapítás alapját képező statisztikai állományi létszámot</a:t>
            </a:r>
            <a:endParaRPr b="0" lang="en-US" sz="1800" spc="-1" strike="noStrike">
              <a:solidFill>
                <a:srgbClr val="000000"/>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ea typeface="Times New Roman"/>
              </a:rPr>
              <a:t>vizsgálj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z adózók ellenőrzésre történő kiválasztás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ötelező az ellenőrzést lefolytatn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 vállalkozónál, ha felszámolását, végelszámolását rendelték el,</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 az Állami Számvevőszék elnökének felhívására,</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 a pénzügyminiszter utasítására,</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 helyi adó esetében az önkormányzat képviselő-testületének határozata alapjá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legnagyobb adóteljesítménnyel rendelkező 3000 adózót az állami adóhatóság köteles legalább kétévente valamennyi adónem és költségvetési támogatás vonatkozásában ellenőrizni.</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ellenőrzés megindítása</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ellenőrzés az erről szóló előzetes értesítés kézbesítésétől kezdődik.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a az adózó vagy képviselője, meghatalmazottja, alkalmazottja a megbízólevél átvételét megtagadja, az ellenőrzés két hatósági tanú jelenlétében az erről szóló jegyzőkönyv felvételével és aláírásával kezdődik.</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z ellenőrzés lefolytatására az adóhatóság szolgálati igazolvánnyal és megbízólevéllel rendelkező alkalmazottja (adóellenőr) jogosul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ellenőrzés befejezése</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adóhatóság a megállapításait jegyzőkönyvbe foglalja. Az ellenőrzés a jegyzőkönyv átadásával fejeződik be.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ellenőrzés megállapítását az adóhatóság az adózóval, próbavásárlás esetén a jelen lévő alkalmazottal vagy az értékesítésben közreműködő személlyel ismerteti.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z utólagos, az ismételt és a felülellenőrzés, illetve az állami garancia beváltásához kapcsolódó ellenőrzés esetén az adóhatóság az ellenőrzés eredményétől függetlenül a megállapításokról határozatot hoz. </a:t>
            </a:r>
            <a:endParaRPr b="0" lang="en-US" sz="2400" spc="-1" strike="noStrike">
              <a:solidFill>
                <a:srgbClr val="000000"/>
              </a:solidFill>
              <a:latin typeface="Times New Roman"/>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gyéb esetben az adóigazgatási eljárást csak akkor kell megindítani, ha az adóhatóság valamilyen kötelezettség teljesítését írja elő vagy jogkövetkezményt állapít me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Times New Roman"/>
              </a:rPr>
              <a:t>A bejelenttés, bejelentkezés általános szabályai</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óköteles tevékenységet főszabályként csak adószámmal rendelkező adózó folytathat. </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z adózó ha adókötelezettsége, adóköteles tevékenysége egyéni vállalkozói igazolványhoz kötött, a vállalkozó székhelye szerint illetékes jegyzőh</a:t>
            </a:r>
            <a:r>
              <a:rPr b="0" lang="en-US" sz="2000" spc="-1" strike="noStrike">
                <a:solidFill>
                  <a:srgbClr val="000000"/>
                </a:solidFill>
                <a:latin typeface="Times New Roman"/>
              </a:rPr>
              <a:t>ö</a:t>
            </a:r>
            <a:r>
              <a:rPr b="0" lang="en-US" sz="2000" spc="-1" strike="noStrike">
                <a:solidFill>
                  <a:srgbClr val="000000"/>
                </a:solidFill>
                <a:latin typeface="Times New Roman"/>
                <a:ea typeface="Times New Roman"/>
              </a:rPr>
              <a:t>z intézett vállalkozói igazolvány iránti kérelem benyújtásával kéri az adószám megállapítását, amellyel az adózó teljesíti az állami adóhatósághoz történő bejelentkezési kötelezettségét.</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 az adózó üzletszerű gazdasági tevékenységet csak a cégbejegyzése iránti kérelem benyújtását követően folytathat, a cégbírósághoz intézett bejegyzés iránti kérelem benyújtásával kéri az adószám megállapítását.</a:t>
            </a:r>
            <a:endParaRPr b="0" lang="en-US" sz="2000" spc="-1" strike="noStrike">
              <a:solidFill>
                <a:srgbClr val="000000"/>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 az adózó tevékenysége a vállalkozói igazolványhoz, illetve cégbejegyzési eljárás megindításához nem kötött, a tevékenység megkezdését megelőzően az állami adóhatóságnál írásban teljesíti bejelentkezési kötelezettségé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áfa kötelezettség bejelentése</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t>
            </a:r>
            <a:r>
              <a:rPr b="0" lang="hu-HU" sz="2400" spc="-1" strike="noStrike">
                <a:solidFill>
                  <a:srgbClr val="000000"/>
                </a:solidFill>
                <a:latin typeface="Times New Roman"/>
              </a:rPr>
              <a:t>áfa</a:t>
            </a:r>
            <a:r>
              <a:rPr b="0" lang="hu-HU" sz="2400" spc="-1" strike="noStrike">
                <a:solidFill>
                  <a:srgbClr val="000000"/>
                </a:solidFill>
                <a:latin typeface="Times New Roman"/>
                <a:ea typeface="Times New Roman"/>
              </a:rPr>
              <a:t> alanya az adóköteles tevékenysége megkezdésének bejelentésével egyidejűleg nyilatkozik arról, hogy</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lang="hu-HU" sz="2400" spc="-1" strike="noStrike">
                <a:solidFill>
                  <a:srgbClr val="000000"/>
                </a:solidFill>
                <a:latin typeface="Times New Roman"/>
                <a:ea typeface="Times New Roman"/>
              </a:rPr>
              <a:t> kizárólag tárgyi adómentes értékesítést végez,</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lang="hu-HU" sz="2400" spc="-1" strike="noStrike">
                <a:solidFill>
                  <a:srgbClr val="000000"/>
                </a:solidFill>
                <a:latin typeface="Times New Roman"/>
                <a:ea typeface="Times New Roman"/>
              </a:rPr>
              <a:t> tárgyi adómentesség helyett adóalanyiságot válasz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lang="hu-HU" sz="2400" spc="-1" strike="noStrike">
                <a:solidFill>
                  <a:srgbClr val="000000"/>
                </a:solidFill>
                <a:latin typeface="Times New Roman"/>
                <a:ea typeface="Times New Roman"/>
              </a:rPr>
              <a:t> alanyi adómentességet válasz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lang="hu-HU" sz="2400" spc="-1" strike="noStrike">
                <a:solidFill>
                  <a:srgbClr val="000000"/>
                </a:solidFill>
                <a:latin typeface="Times New Roman"/>
                <a:ea typeface="Times New Roman"/>
              </a:rPr>
              <a:t> az adómegállapítás melyik különleges módját kívánja alkalmazn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lang="hu-HU" sz="2400" spc="-1" strike="noStrike">
                <a:solidFill>
                  <a:srgbClr val="000000"/>
                </a:solidFill>
                <a:latin typeface="Times New Roman"/>
                <a:ea typeface="Times New Roman"/>
              </a:rPr>
              <a:t> Közösségen belüli értékesítést vagy beszerzést kíván végezni.</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fenti nyilatkozat megváltoztatását a változtatást megelőző adóév utolsó napjáig kell bejelenten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változások bejelentés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z adózónak az adókötelezettségét érintő olyan változást, amelyről a cégbíróság, illetve a körzetközponti jegyző külön jogszabály alapján az adóhatóságot nem köteles értesíteni, annak </a:t>
            </a:r>
            <a:r>
              <a:rPr b="1" lang="en-US" sz="3200" spc="-1" strike="noStrike">
                <a:solidFill>
                  <a:srgbClr val="000000"/>
                </a:solidFill>
                <a:latin typeface="Times New Roman"/>
                <a:ea typeface="Times New Roman"/>
              </a:rPr>
              <a:t>bekövetkezésétől számított 15 napon belül</a:t>
            </a:r>
            <a:r>
              <a:rPr b="0" lang="en-US" sz="3200" spc="-1" strike="noStrike">
                <a:solidFill>
                  <a:srgbClr val="000000"/>
                </a:solidFill>
                <a:latin typeface="Times New Roman"/>
                <a:ea typeface="Times New Roman"/>
              </a:rPr>
              <a:t> az előírt nyomtatványon közvetlenül az állami és az önkormányzati adóhatóságnak kell bejelenteni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z adózó nyilvántartásba véte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z adóhatóság a bejelentés alapján nyilvántartásba veszi az adózót. Az állami adóhatóság az adózónak a bejelentés alapján adószámot és közösségi adószámot állapít meg. Az adószámot az egyéni vállalkozói igazolványban fel kell tüntetni, és a cégjegyzékbe be kell jegyezni.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z állami adóhatóság az adószámmal nem rendelkező magánszemélyt az adóazonosító jelén, ennek hiányában útlevélszámán, állampolgárságát is feltüntetve, tartja nyilván.</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z adózónak az adóazonosító számát az adózással összefüggő minden iraton fel kell tüntetni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Times New Roman"/>
              </a:rPr>
              <a:t>Az adómegállapítá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dót, illetve a költségvetési támogatás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z adózó: önadózással,</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b)</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kifizető és a munkáltató: adólevonással, az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dóbeszedésre kötelezett: adóbeszedéssel,</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c) az adóhatóság: kivetéssel, kiszabással, utólagos </a:t>
            </a: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adómegállapítással, illetőleg azonnali ellenőrzéssel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ea typeface="Times New Roman"/>
              </a:rPr>
              <a:t>állapítja meg.</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dókat adónkén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 költségvetési támogatást támogatásonkén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az adó- illetve a költségvetési támogatás alapjának meghatározására előírt időszakonként </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ea typeface="Times New Roman"/>
              </a:rPr>
              <a:t>kell megállapíta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Times New Roman"/>
              </a:rPr>
              <a:t>Az adómegállapítás módjai</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Önadózá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dólevoná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Kiveté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Kiszabá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Adóbeszedé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rPr>
              <a:t>Feltételes adómegállapítá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20:23:08Z</dcterms:created>
  <dc:creator>Halász Család</dc:creator>
  <dc:description/>
  <dc:language>en-US</dc:language>
  <cp:lastModifiedBy>Halász Család</cp:lastModifiedBy>
  <dcterms:modified xsi:type="dcterms:W3CDTF">2003-10-05T09:12:54Z</dcterms:modified>
  <cp:revision>2</cp:revision>
  <dc:subject/>
  <dc:title>Pénzügyi jog</dc:title>
</cp:coreProperties>
</file>