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2334-1F46-4B95-BDCA-CAAB4D5193B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4BA1-918E-42C8-91BF-A2BD6BD1240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04840" y="866880"/>
            <a:ext cx="4648320" cy="348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D849-5587-4D10-A80E-D9940852B18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04840" y="866880"/>
            <a:ext cx="4648320" cy="348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F868-CFA4-4A04-9CC4-C9B8272E722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04840" y="866880"/>
            <a:ext cx="4648320" cy="3485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D83-2725-4CFD-81B7-7FABB57B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419-8FD8-4336-848A-27514FD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52D-5C88-4B25-B24C-2ACC21BE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ABC-60A9-46BB-BA60-514BC660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8676-64F9-4817-9170-D96525BA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958-3533-4F81-9D9F-9FF662C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581D-BC77-4202-BA45-8EE0DA0B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90A-F1E2-4DB4-ADAE-C165AA0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3E7B-DDB6-4B05-8971-54ADA2B4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A52-B85C-48C9-B77E-B3F63A9E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140-BD3A-4237-BA15-00D8D91A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EE4-693E-4318-8676-36539F1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ED94-E59F-41B6-BEA7-8EA8227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C12B-4394-4D69-93BD-222B41F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00D-F687-4EBF-85C6-BC487D5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E6AB-7A7B-4012-9E1C-99B8C788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CC0F-B138-4BFC-B6A2-81138362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5F9-4A4D-45B4-AB1C-E66D645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C8E-2945-4502-B68F-5B618DD1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2E6-5839-439A-94A9-C0B0869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18C-8B2D-4895-A000-65FBA76E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81D-EAC9-455D-9B04-A13CEA1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84F-42BA-4BE5-9274-56A7E64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DD8-85DD-415C-9B81-1E462C7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A4E-4B80-43D7-B907-3FC695B1F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467480" y="457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" name="D&amp;T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067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6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8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91C-7CF7-4345-9AC9-22ED3D457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z ÁFA az EU-b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BD1B-215A-4D02-824F-9BA687C93F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Times New Roman"/>
              </a:rPr>
              <a:t>Konyak v. Whis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abonaféléből készült magas alkoholtartalmú italok sokkal nagyobb közvetett adóval sújtotta Franciaország mint a gyümölcsből készült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ranciaország: a termékek különböző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Jóllehet íz és fogyasztási szokások különbözőek, de mégis helyettesí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C0A-BAD1-4A75-ACCE-BE5B21C6A6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Sör v. 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nglia rendkívül magas adót a borra a sörhöz ké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óllehet íz és fogyasztási szokások különbözőek, de mégis helyettesíth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450-72F1-4B51-93CD-756AF9BB2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Belga vagyonátruházási illeté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ltérő adókulcs terheli a lábon álló, a döntött és a vágott fűrészárut. Belga import nagy részét a fűrészá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szkriminatí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CF6-49E5-46FE-8B9E-1526E37A0C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ok az áruk, amelyeket a tagállamok egyikébe exportálnak,nem részesülhetnek na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b adó-visszatérítési kedvezményben, mint amilyen nagyságú adók közvetlenül vagy közvetve terhelték azoka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F46-D672-4DBE-8912-78E8232B64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Vas és acélexport Olaszországbó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isszatéríti az olasz állam a társaság regisztrációs díját is és egyéb illetéke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mogatás, mert nemcsak a terméket illető, hanem a termelőt terhelő díja is visszafizetésre kerüln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121-1DE6-464A-AF13-1D892FFD52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forgalmi  adókon, a jövedéki adókon és egyéb közvetett adókon kívüli adókra vonatkozó mentesítések …, kivitelt illetően visszatérítések … valamint importot  kiegyenlítő díjak csak akkor megengedettek, ha azokat a Tanács előzőleg – a Bizottság javaslatára –minősített többséggel, </a:t>
            </a:r>
            <a:r>
              <a:rPr b="0" lang="hu-HU" sz="2800" spc="-1" strike="noStrike">
                <a:solidFill>
                  <a:srgbClr val="cc0000"/>
                </a:solidFill>
                <a:latin typeface="Times New Roman"/>
              </a:rPr>
              <a:t>meghatározott időre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engedélyez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él, hogy  ne legyen versenyelőny illetve manipulálás közvetlen és közvetett adók között -Eddig még nem volt kérelemre vagy  felmentésre pél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279-9113-4FBE-B92F-4BEB36FB4D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Tanács a Bizottság javaslat alapján … meghozza azokat a rendelkezéseket, amelyek a belső piac létrehozásának és működésének az érdekében a forgalmi adók … harmonizációját céloz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6E2-607C-40AB-8BFA-2E778E884C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források - Irányelv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49200" y="2080800"/>
            <a:ext cx="7693200" cy="3979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1st EU VAT Directive 1967 (Dir. 67/227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2nd EU VAT Directive 1967 (Dir. 67/22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6th EU VAT Directive 1977 (Dir. 77/38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8th EU VAT Directive 1979 (Dir 79/1072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13th EU VAT Directive 1986 (Dir 86/560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További a 6. Irányelvet módosító irányelve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5D0-D4C7-41E5-B0A2-CE2C26D0CCC1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1- 2 Irányelv (1967) – </a:t>
            </a:r>
            <a:br>
              <a:rPr sz="4400"/>
            </a:b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lv és alapkategóriá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özös ÁFA rendszer elve azt jelenti, hogy a termékértékesítésre és  szolgáltatásnyújtásra olyan általános fogyasztási adót kell kivetni, amely arányos a termékek és szolgáltatások árával, függetlenül az adómegállapítást megelőző, az előállítási és értékesítési fázis során felmerülő ügyletek számátó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2DF-2116-4473-AE36-988633963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6. Irányelv (1978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920000" cy="3832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Átfogó  keretben harmonizálja a többfázisú nettó forgalmi adózás elemeit. Elvi és alapvető jogforrá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Legjelentősebb módosítás az átmeneti ÁFA re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zer bevezetése az adóhatárok megszűntetése nyomán 1993 január 1-tő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zabályozza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-36180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KI - Adóalanyisá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-36180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MIT – Adóztatható értékesítése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-36180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HOL – Teljesítési helyek értékesítésné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CC5-49C3-4DD5-9842-B06DCCAD0972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lőadás tartal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zvetett adók rendszere az EU-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óma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rányelv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970-E5B1-49E1-B1E7-B87863D021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alany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2286-08B0-409C-83F4-8139A7BA59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alan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óalany az aki a Közösség területén önállóan gazdasági tevékenységet folytat függetlenül a tevékenység céljára és eredményé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8AA-AE24-492B-A96C-4990513FAF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alanyiság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Polysar (199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ff"/>
                </a:solidFill>
                <a:latin typeface="Times New Roman"/>
              </a:rPr>
              <a:t>Tény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ás társaságokban való részesedés szerzése és tartása nem minősül gazdasági tevékenység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rányításban való részvétel feltétele az adólalanyiság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ff"/>
                </a:solidFill>
                <a:latin typeface="Times New Roman"/>
              </a:rPr>
              <a:t>Következte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m adóalany a ho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902-B5AA-423C-897D-D7FD27F65565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alanyiság személy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Harnas &amp; Hel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rnas &amp; He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azdasági tevékeny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seti jellegű felvásárlás és értékpapírok tulajdonlása nem minősül gazdasági tevékenység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FA hatályon kívü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intén,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nate Enkler (199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C15-93C9-4AFD-8EA4-2809FFFA4B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ztatható értékesítés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rtokba vehető dolgok felett tulajdonosként való rendelkezési jog átruhá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olgáltatásnyúj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mi nem termékértékesítés az szolgáltatásnyúj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7EB-6C28-4F42-B077-E4E14D4607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ztatható értékesítések-Alapvető ügyl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ott országon belüli tranzakció – belföldi 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zösségen belüli tranzakc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mport és 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olgáltatá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BF0-5FBF-47AB-B741-FA9840C6D2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1.) Belföldi értékesíté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gyarországon belüli 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őszabály: magyar ÁFA-t kell felszámítania a szállító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üggetlenül attól, hogy hol van a kereskedő cégeknek a székhel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DBF-EF59-4818-8F41-D15900F26F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ott országon belüli belföldi értékesítés - pél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8" name="j0178253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j0178249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360" y="2438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800" y="2514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metorsz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216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503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6576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3120" y="3809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ám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7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7815200">
            <a:off x="420120" y="3230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rmék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200400"/>
            <a:ext cx="380880" cy="106668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1B1-12DE-40B5-95C0-C0C0ED4FC2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ffff"/>
                </a:solidFill>
                <a:latin typeface="Times New Roman"/>
              </a:rPr>
              <a:t>Termékértékesítés teljesítési hely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termékértékesítés iránya és nem a számlázás iránya határozza m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3276720"/>
            <a:ext cx="7772400" cy="27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ő szabály sze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hol a termék az értékesítéskor talál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közlekedés megkezdésének hel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összeszerelés hel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import megvalósításának hel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497-D36B-4002-AFC3-43B2BCB09A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2.) Közösségen belüli értékesítés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értékesítés A tagországból B tagország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FA kez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A országban lévő cég közösségen belüli értékesítést vég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B országban lévő cég közösségen belüli beszerzést vég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7D8-3519-4490-B692-5DF738CAA7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U közvetett adók - Jogforráso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49200" y="2080800"/>
            <a:ext cx="7693200" cy="3979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78000" indent="0">
              <a:spcBef>
                <a:spcPts val="850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3400" spc="-1" strike="noStrike">
                <a:solidFill>
                  <a:srgbClr val="ffffff"/>
                </a:solidFill>
                <a:latin typeface="Times New Roman"/>
              </a:rPr>
              <a:t>Római Szerződés -</a:t>
            </a:r>
            <a:r>
              <a:rPr b="0" lang="en-GB" sz="3400" spc="-1" strike="noStrike">
                <a:solidFill>
                  <a:srgbClr val="ffffff"/>
                </a:solidFill>
                <a:latin typeface="Times New Roman"/>
              </a:rPr>
              <a:t> 1957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3400" spc="-1" strike="noStrike">
                <a:solidFill>
                  <a:srgbClr val="ffffff"/>
                </a:solidFill>
                <a:latin typeface="Times New Roman"/>
              </a:rPr>
              <a:t>Irányelvek, különösen a 6. irányelv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DD9-E878-434F-8622-DCAB476B217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özösségen belüli beszerzé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5" name="j0178253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j0178249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21040" y="205740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3760" y="20574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metorsz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32767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9280" y="35053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ék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309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5032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FE6-3FC1-4062-AA3B-2C7AC356F8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Péld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j0178253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j0178249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21040" y="205740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13760" y="20574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metorsz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2767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3760" y="3962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ék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309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5032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5000" y="335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5040" y="3352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 - ICS  Közösségen belüli értékesítés – 0% / mentes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  - ICA  Közösségen belüli beszerzés – német ÁF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C43-DEB4-4DFB-9A1A-AB7D26D862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özösségen belüli értékesítés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0 % / mentes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2 felté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és az eladó ÁFA azonosító számát fel kell tüntetni a szám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eladónak bizonyítania kell, hogy az árut egy másik tagállamba szállított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299-D50F-4E1F-8899-09622BFD06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3.a) EXPO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sak abban az esetben, ha az áruk elhagyják az EU-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0% / Beszerzési ÁFA levonásának lehetősé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jesítés helye: ahol a szállítás megkezdőd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60F-270D-4651-82E3-44A2DB7889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3.b.)IMPO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izárólag vámáruk ( EU-n kívülről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import abban a tagországban kerül adóztatásra ahol az import megvalós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mportáláskor ÁFA kerül felszámítás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ámértéken + import-terhek + EU-n belüli szállítás költség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ámhatóság részére fizetés vagy halasztás ( bizonyos tagállamokban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C46-0E43-475E-9F14-2425B71308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4.)Szolgáltatáso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mi nem termékértékesítés az szolgáltatásnyúj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teljesítés helye ott található, ahol a szállí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e, székhelye talál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565-B6C4-49FD-9490-43C8C5FE51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gatlanhoz kapcsolodó szolgáltatá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ingatlan fekvése szerint                           ( ingatlanügynök, építési kivitelezés irányítása, építész szolgáltatása, stb.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F14-A367-4D99-AB9C-C940888136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szolgáltatás nyújtásának tényleges hel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góságon végzett munkálatok és értékelés: kulturális, művészeti, sportolási, oktatási, szórakoztatási szolgáltatás ( beleértve ezek szervezését és kiegészítő szolgáltatásokat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315-A71C-4CF1-BE29-61C3F0AEF0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 – 9.2.e paragraf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székhelyének, telephelyének fekv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székhelye, telephelye, állandó lakhelye az EU-n kívül talál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székhelye, telephelye, állandó lakhelye az EU-n belül található és ÁFA alany, aki a szolgáltatást gazdasági tevékenységéhez igénybe ves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484-9596-4AD7-A390-35374AD8CD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 – 9.2.e paragraf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ogok, licenciák átruhá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klám, propaganda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anácsadás, ügyvédi, könyvvizsgálói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telezettségvállalás arra, hogy tartózkodik bizonyos cselekménytől, illetve kötelezettségvállalás bizonyos cselekedet megtételé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énzügyi + biztosítási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unkaerő közvetítés – kölcsönz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ngóságok bérbeadása ( járművek kivételével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lekommunikációs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gynöki szolgáltatás a fentiek vonatkozásáb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11D-23A6-4C9C-A9D9-056D13A688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Római szerződés adójogi szabály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34008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56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A384-4BC8-4B4C-B7FC-16ED873F919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urópai Bíróság (European Court of Justice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re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Európai Unió legfelsőbb bírósá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ja hogy a tagállamok betartsák a közösségi jog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ikényszeríti a bizottság döntés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egválaszolja a nemzeti bíróságok által feltett kérdése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30E-4364-41D2-B2CF-D9230186B597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ÁFA Esetjog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909800" y="4201920"/>
            <a:ext cx="681048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88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8C4-01E6-4401-8E20-351AE111C031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 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Goodwin &amp; Unste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0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win and Unstead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em számolt fel Áfa-t a hamisított parfümök értékesítése sor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versenynek érvényesülnie kell a hamisított és az eredeti termékek közötti kereskedelem esetén s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fa fizetési kötelezettség keletkezik a hamisított parfümök értékesítése után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306-D549-4764-9E53-9C4AD22F45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Karlheinz Fisch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r. Fischer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ngedély nélkül „rulette játékokat” működ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ngedély nélküli szerencsejáték tevékenység versenyt jelent az engedélyezett rulette játékok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em kötelező Áfa-t felszámolni az engedély nélküli tevékenységre, ha az engedélyezett játékterem által nyújtott megegyező tevékenység Áfa mentesnek minős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CA2-F3C4-44AD-9602-A3ABD9044A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VOF Coffeeshop Siberië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holland kávézokban illegálisan lehet droghoz jut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sztalt vesznek bérbe az illegális tevékenység folytatásáho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fa-t kell fizetni a bérbeadás után, mert ez versenyt jelent a legális tevékenyséhez kapcsolódó bérbeadás esetén, amely áfa köt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DFE-28DF-4369-B64A-5B5398FB1E8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Happy Fami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llegális drogok árus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Times New Roman"/>
              </a:rPr>
              <a:t>Dön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m Áfa köteles tevékenység, mert nem jelent versenyt a legális tevékenységekr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502-C522-4092-AE67-7054431175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Landboden Agrardienste Gmb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T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mpenzációs kifizetések a burgonya termelésének 20%-os csökkenése miat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pezi-e a kifizetés az Áfa tárgyá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Arial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ompenzációs kifizetés nem minősül szolgáltatásnak az Áfa szempontjábó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777-C940-4A52-B83A-366497DAFA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Szolgáltatás teljesítési helye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ARO Lease B.V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olland társaság autókat bérel belga ügyfelein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ol történik a teljesítés - Hollandiában, vagy Belgiumba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Íté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gyéni vállalkozású ügynökök tevékenysége nem keletkezetet telephelyet Belgiumba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eljesítés helye, ahol ARO székhelye 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ollandiában számolnak fel Áfa-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D3E-6E5C-46A3-A2DF-00AF861AC0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Értékesítések ösztönzésese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Kuwait Petroleum (GB) Lt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ngyen ajándékokat adtak azon vevőknek akik a tankoláskor utalványt kapt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lőzetesen felszámított ÁFÁ-t levonták de az értékesítés után nem számítottak fel adó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Íté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dóköteles termékértékesí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D0E-B368-451B-A35E-E81C01090C82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ivételek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Elisabeth Blas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Té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sabeth Blasi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ződés alapján 6 hónapra kiadja a lakókocsij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érbeadások átlagos időtartalma 14 hón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Dön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 bérbeadás rövid idöszakot ölel át akkor adó köteles, a szállodai gyakorlatnak megfelelő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emzeti bíróságoknak kell eldönteniük, hogy a szerződés tükröz-ei a felek valódi szándéká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551-6941-4436-9E4B-BDAA1613A1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A Római Szerződés adózási szabály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llampolgári alapon történő diszkrimináció  tilalma (12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ámunió és vámforgalmi illeték kivetésének a tilalma (23-25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unkavégzés szabadsága (39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olgárok szabad letelepedését gátló intézkedések tilalma (43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állalkozások szabad letelepedését gátló intézkedések tilalma (48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őke és pénzmozgások szabadsága (56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nnyiségi korlátozások tilalma (86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08C-E2A9-4609-9019-181FB257028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ivételek                                   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Card Protection Pl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T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PP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lyan szolgáltatáscsomagot kínál, amely tartalmaz biztosítást hitelkártya elvesztése esetén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nácsadói szolgáltatás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egy, vagy több szolgáltatásnak minősü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t biztosítás, Áfa mentesnek minősü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Dön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ntesség nem korlátozódik csak a hivatalos biztosító által nyújtott biztosítás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 egy vagy több szolgáltatásnak minősül, a nemzeti bíróságok hatáskörébe tartoz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174-5CC2-4469-9AB4-936152154D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A Római Szerződés közvetett adókra vontakozó szabály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206496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ókra vonatkozó rendelkezések 90-93 cikk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mozgást érintő szabályozás nem lehet diszkriminatí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ogyasztást érintő adó nem lehet protekcion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AC5-3EDF-494C-857F-1284FCDD5A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0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tagállamok sem közvetve, sem közvetlenül nem vetnek ki olyan adót a másik tagállamból származó termékre, melynek mértéke magasabb, mint a </a:t>
            </a:r>
            <a:r>
              <a:rPr b="0" lang="hu-HU" sz="2800" spc="-1" strike="noStrike">
                <a:solidFill>
                  <a:srgbClr val="cc0000"/>
                </a:solidFill>
                <a:latin typeface="Times New Roman"/>
              </a:rPr>
              <a:t>hasonló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jellegű termékre kivetett adó mérté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tagállamok továbbá nem vetnek ki más tagállamból származó termékre olyan belső adókat, amelyek közvetve </a:t>
            </a:r>
            <a:r>
              <a:rPr b="0" lang="hu-HU" sz="2800" spc="-1" strike="noStrike">
                <a:solidFill>
                  <a:srgbClr val="cc0000"/>
                </a:solidFill>
                <a:latin typeface="Times New Roman"/>
              </a:rPr>
              <a:t>má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termékek védelmét szolgáljá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C46-36AB-4CD2-B39C-0185191B1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Humb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.100 v. 5.000 FF gjmű. adó, amely méretűt csak importálnak, de nem gyárta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rotekcionista, ez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 a 90. Cikkelybe ütköz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022-7AF1-4F50-88E4-7C39D3C7C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Times New Roman"/>
              </a:rPr>
              <a:t>Chemical Farmaceu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gkülönböztetés a szintetikus és az erjesztéssel előállított etilalkohol között és Olaszországban csak erjesztéssel állították elő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lasz hivatkozás, hogy az adópolitika az etilénnel való takarékosságra ösztönö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Jogos kivétel és nem ütközik 90. Cikkelybe ütkö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590-9399-4DE9-8ACE-1578DDF1AB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0:51:54Z</dcterms:created>
  <dc:creator>Valkó Adrienn</dc:creator>
  <dc:description/>
  <dc:language>en-US</dc:language>
  <cp:lastModifiedBy>Békés Balázs</cp:lastModifiedBy>
  <cp:lastPrinted>2000-11-21T13:58:59Z</cp:lastPrinted>
  <dcterms:modified xsi:type="dcterms:W3CDTF">2003-05-11T14:36:12Z</dcterms:modified>
  <cp:revision>66</cp:revision>
  <dc:subject/>
  <dc:title>No Slide Title</dc:title>
</cp:coreProperties>
</file>