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drumroll.wav" ContentType="audio/x-wav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525000" cy="7239000"/>
  <p:notesSz cx="66389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749-4373-42D5-86A1-67F9C10B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197-17B7-4AAA-AC5D-B0881CB8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39F-DF50-4895-8216-65C78347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5168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9120" y="209052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1424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5168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9120" y="4359240"/>
            <a:ext cx="260676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92B-92CD-4A74-9756-2626A7AB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F77-7273-413F-A0A3-BAD32EAA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ADE-34D0-4A9D-9F51-0FAD0CBA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B41-2F51-4C9D-B801-72C97DD2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254-3A5C-405D-94A7-9A0EFE56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14240" y="642600"/>
            <a:ext cx="8096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8DF-604C-4484-8C72-49C826B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FB6-9A2B-43CB-9750-43F34AB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3240" y="435924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286-DD54-4656-8ECA-7D636F3E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14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240" y="2090520"/>
            <a:ext cx="39510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14240" y="4359240"/>
            <a:ext cx="8096400" cy="2071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B51-2EE3-4BD6-B32E-B703361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4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2090520"/>
            <a:ext cx="8096400" cy="4343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spcBef>
                <a:spcPts val="72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1" marL="773280" indent="-297000">
              <a:spcBef>
                <a:spcPts val="726"/>
              </a:spcBef>
              <a:buClr>
                <a:srgbClr val="3333cc"/>
              </a:buClr>
              <a:buFont typeface="Times New Roman"/>
              <a:buChar char="–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2" marL="1190520" indent="-23796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3" marL="1627200" indent="-23796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4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5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lvl="6" marL="2063880" indent="-23832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3880" y="6595560"/>
            <a:ext cx="198468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lstStyle>
            <a:lvl1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54400" y="6595560"/>
            <a:ext cx="301608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lstStyle>
            <a:lvl1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6320" y="6595560"/>
            <a:ext cx="1984320" cy="482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EHLOGK_3" descr=""/>
          <p:cNvPicPr/>
          <p:nvPr/>
        </p:nvPicPr>
        <p:blipFill>
          <a:blip r:embed="rId3"/>
          <a:stretch/>
        </p:blipFill>
        <p:spPr>
          <a:xfrm>
            <a:off x="533520" y="6400800"/>
            <a:ext cx="21430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34680" y="1688760"/>
            <a:ext cx="8096040" cy="4343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207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8300" spc="-1" strike="noStrike">
                <a:solidFill>
                  <a:srgbClr val="3333cc"/>
                </a:solidFill>
                <a:latin typeface="Times New Roman"/>
              </a:rPr>
              <a:t>MEHIB</a:t>
            </a:r>
            <a:endParaRPr b="1" lang="en-US" sz="83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125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5000" spc="-1" strike="noStrike" baseline="-2000">
                <a:solidFill>
                  <a:srgbClr val="3333cc"/>
                </a:solidFill>
                <a:latin typeface="Times New Roman"/>
              </a:rPr>
              <a:t>MAGYAR  EXPORTHITEL BIZTOSÍTÓ RT. </a:t>
            </a:r>
            <a:endParaRPr b="1" lang="en-US" sz="50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B57-FF01-4572-B6C9-4C38607F39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90560" y="576360"/>
            <a:ext cx="778500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SZÁLLÍTÓI HITEL BIZTOSÍTÁS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Z EXPORTŐR HITELBEN TÖRTÉNŐ ÉRTÉKESÍTÉSEIRE NYÚJT FEDEZETET A KERESKEDELMI SZERZŐDÉS TELJESÍTÉS UTÁNI HITELEZÉSI IDŐSZAKR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362320"/>
          <a:ext cx="77407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77407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109-CDCD-4FC5-A149-B7AC9D8836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6400" cy="685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hu-HU" sz="4600" spc="-1" strike="noStrike">
                <a:solidFill>
                  <a:srgbClr val="3333cc"/>
                </a:solidFill>
                <a:latin typeface="Times New Roman"/>
              </a:rPr>
              <a:t>Országkockázati minősítés</a:t>
            </a:r>
            <a:endParaRPr b="0" lang="en-US" sz="4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143000"/>
            <a:ext cx="807696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A világ országainak minősítése félévenként politikai és transzferkockázat szempontjáb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Az országok rangsorolása országkockázat szer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Biztosítható kategóriák : 1 – 7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 CE"/>
              </a:rPr>
              <a:t>Nem biztosítható kategória : 7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A minősítés alapja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Times New Roman CE"/>
              <a:buAutoNum type="alpha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Nemzetközi hitelminősítő intézetek országkockázati besorolása és export-hitelbiztosítók értékel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Mehib minősítésében 70% részarányb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Times New Roman CE"/>
              <a:buAutoNum type="alphaU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 </a:t>
            </a: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Kétoldalú kapcsolatok értékel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 CE"/>
              </a:rPr>
              <a:t>Mehib minősítésében 30% részarányb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CD8-AC67-4F44-A44D-79F29BEC6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14240" y="642600"/>
            <a:ext cx="8096400" cy="4505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188280" indent="0" algn="ctr">
              <a:spcBef>
                <a:spcPts val="8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BANKOK SZEREPE</a:t>
            </a: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33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*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EGY BANK SZÁMÁRA A BIZTOSÍTÁSI KÖTVÉNY HITELEZÉSI BIZTONSÁGOT, FEDEZETET  JELENT  HITELE  KIHELYEZÉSÉNÉL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A BIZTOSÍTÁSI KÖTVÉNY A HITELT NYÚJTÓ BANKRA FORGATHATÓ (SZÁLLÍTÓI HITEL)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A KÁRTÉRÍTÉS EBBEN AZ ESETBEN  A  BANKOT  ILLETI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18828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A HITELT NYÚJTÓ BANK KÖZVETLENÜL BIZTOSÍTOTT LEHET (VEVŐHITEL).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0DD-027E-4280-9773-14EF7D54A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6080" y="428760"/>
            <a:ext cx="81025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NEMZETKÖZI SZABVÁNY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1, OECD KONSZENZUS  (EU  NORMATÍV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Z ÁLLAM ÁLTAL  HIVATALOSAN TÁMOGATOTT EXPORT (GARANCIA, RE/FINANSZÍROZÁS  ÉS EXPORTHITEL BIZTOSÍTÁS)  VALAMINT SEGÉLYEZÉS  FELTÉTELEIT SZABÁLYOZZA 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</a:rPr>
              <a:t>2  ÉVEN TÚLI HITELFUTAMIDŐ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 ESETÉ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19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 KONSZENZUSHOZ CSATLAKOZTAK: OECD ORSZÁGOK, FEJLETT IPARI ORSZÁG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 KONSZENZUS  </a:t>
            </a: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NEM  VONATKOZIK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 HADIIPARI CIKKEKRE ÉS MEZŐGAZDASÁGI  ÁRUK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PECIÁLIS ÁGAZATI  MEGÁLLAPODÁSOK: ERŐMŰVEK, HAJÓK, ATOMERŐMŰVEK ÉS POLGÁRI LÉGISZÁLLÍTÁSI ESZKÖZÖK EXPORT TÁMOGATÁSÁR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33480" y="2590920"/>
          <a:ext cx="7867800" cy="1314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3480" y="2590920"/>
                    <a:ext cx="786780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258-27B9-4396-82C9-BD3F3288CC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0920" y="646200"/>
            <a:ext cx="615888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NEMZETKÖZI SZABVÁNY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9360" y="1603440"/>
            <a:ext cx="86389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2, BERNI UNIÓS MEGÁLLAPODÁ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Z UNIÓ 1934-BEN ALAKULT, A NEMZETKÖZI EXPORTHITEL</a:t>
            </a:r>
            <a:br>
              <a:rPr sz="1900"/>
            </a:b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ÉS BERUHÁZÁS BIZTOSÍTÓK NEMZETKÖZI SZERVEZETE (48 TAG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HITELFUTAMIDŐTŐL  FÜGGETLENÜL SZABÁLYOZZA  AZ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EXPORTÖSZTÖNZÉS  ÁLTALÁNOS  FELTÉTELEIT.  EZEN  FELÜ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SZAKMAILAG KOORDINÁLJA A HITELBIZTOSÍTÓK  TEVÉKENYSÉGÉ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7 ÁRUCSO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buClr>
                <a:srgbClr val="3333cc"/>
              </a:buClr>
              <a:buFont typeface="Times New Roman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ÁGAZATI EGYEZMÉNY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JELENTÉSI KÖTELEZETTSÉGE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011-4F70-423B-9BE2-084EAE7AD4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13880" y="642600"/>
            <a:ext cx="8315640" cy="579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A HITELBIZTOSÍTÁS ELŐNYEINEK ÖSSZEFOGLALÁSA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LEHETŐVÉ TESZI A CÉG FOLYAMATOS MŰKÖDÉSÉ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MEGKÖNNYÍTI VÁLLALKOZÁS FINANSZÍROZÁSÁ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SEGÍTSÉGÉVEL ELKERÜLHETŐK A KÁROK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LEHETŐSÉGET NYÚJT ARRA, HOGY LEJÁRT KÖVETELÉSEK BEHAJTÁSÁRA PROFESSZIONÁLIS ÜGYNÖKSÉGET ALKALMAZHASSON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* FOLYAMATOS ADÓSMONITORING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47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512-26A1-4115-A702-56B5ED2896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73000" y="401760"/>
            <a:ext cx="72723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MEHIB TEVÉKENYSÉGÉNEK FŐBB ADATA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960" y="1608120"/>
            <a:ext cx="89694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t">
            <a:noAutofit/>
          </a:bodyPr>
          <a:p>
            <a:pPr marL="374760" indent="-374760">
              <a:spcBef>
                <a:spcPts val="476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hu-HU" sz="1900" spc="-1" strike="noStrike">
                <a:solidFill>
                  <a:srgbClr val="3333cc"/>
                </a:solidFill>
                <a:latin typeface="Times New Roman"/>
              </a:rPr>
              <a:t>Adatok millió Ft-b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1997        1998       1999      2000       2001        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FEDEZETBEVÉTEL  46.735    50. 159   60.741    93.141    62.690    101.4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DÍJBEVÉTEL                  521           729        619      1.009         948           75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KÁRFIZETÉS                   32            189     2.802     1.622      1.150   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    5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524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hu-HU" sz="2100" spc="-1" strike="noStrike">
                <a:solidFill>
                  <a:srgbClr val="3333cc"/>
                </a:solidFill>
                <a:latin typeface="Times New Roman"/>
              </a:rPr>
              <a:t>KÁRMEGTÉRÜLÉS      738            427        427        330      1.026           8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C41-5BA1-4206-85C6-F673074D6B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8096400" cy="1206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Times New Roman"/>
              </a:rPr>
              <a:t>MI A HITELBIZTOSÍTÁS ?</a:t>
            </a:r>
            <a:endParaRPr b="0" lang="en-US" sz="3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80" y="1981080"/>
            <a:ext cx="80625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BIZTOSÍTÉK ARRA, HOGY HA AZ ADOT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HITELÜGYLET ADÓSA ESEDÉKESSÉGKO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NEM  VAGY RÉSZLEGESEN TELJESÍT (FIZET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3880" indent="-23832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 JOGOSULT MÉGIS HOZZÁJUSS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KÖVETELÉSÉHE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 algn="ctr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63E-1886-49AC-89A6-290CCB2EC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14240" y="482760"/>
            <a:ext cx="8096400" cy="5790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 HITELEZÉS KOCKÁZATAI 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37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1, BELFÖLDI (PL. EXPORTŐR TELJESÍTÉSI KOCKÁZAT)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2, KÜLFÖLDI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POLITIKAI KOCKÁZAT:   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/EXPORTÜGYLETBEN RÉSZTVEVŐ FELEKEN KÍVÜLÁLLÓ TÉNYEZŐK,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ELYEKRE A FELEKNEK NINCS RÁHATÁSUK/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3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KLASSZIKUS: TULAJDONJOGOT SÉRTŐ INTÉZMÉNYEK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MODERN: ÁLLAMI INTÉZKEDÉSEK, MELYEK KÖVETKEZTÉBEN AZ 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        ÜZLETI TEVÉKENYSÉG NEM FOLYTATHATÓ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ERESKEDELMI KOCKÁZAT:   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just">
              <a:spcBef>
                <a:spcPts val="425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/EXPORTÜGYLETBEN RÉSZTVEVŐ FELEKTŐL FÜGGŐ TÉNYEZŐK ,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ELYEK ALAKULÁSÁRA A FELEK HATÁSSAL BÍRNAK ÉS MELYET  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MÉRHETŐVÉ LEHET TENNI/</a:t>
            </a:r>
            <a:r>
              <a:rPr b="0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AA8-34F8-4E1E-8891-4DD8C78F2E04}" type="slidenum">
              <a:t>3</a:t>
            </a:fld>
          </a:p>
        </p:txBody>
      </p:sp>
    </p:spTree>
  </p:cSld>
  <p:transition spd="slow">
    <p:zoom dir="ou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4240" y="723960"/>
            <a:ext cx="8096400" cy="5710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HOGYAN VÁLLAL BIZTOSÍTÁST A MEHIB?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POLITIKAI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ERESKEDELMI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BIZTOSÍTÁS               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BIZTOSÍTÁS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ÖLTSÉGVETÉS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PIACI ALAPON,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ÉSZFIZETŐ KEZESSÉGE 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VISZONTBIZTOSÍTÁSSAL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CSÖKKENTVE A SAJÁ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OCKÁZATOT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GLOBÁLLIMIT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          (2000: 250 MRD  FT)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Times New Roman"/>
              </a:rPr>
              <a:t>KÁRFIZETÉSI ELŐIRÁNYZAT  (2000: 3 200 MILLIÓ FT)</a:t>
            </a:r>
            <a:endParaRPr b="1" lang="en-US" sz="21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46360" y="2332080"/>
            <a:ext cx="0" cy="723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73760" y="2332080"/>
            <a:ext cx="0" cy="72396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46360" y="3941640"/>
            <a:ext cx="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21A-7C28-456A-8C85-4C7A23BC4B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66840" y="704880"/>
            <a:ext cx="722952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marL="357120" indent="-357120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FOGALMI MEGHATÁROZÁSO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1, ÖNRÉSZESEDÉS / KÁRFIZETÉSI HÁNY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2, KÁRFIZETÉSI TÜRELM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3, HITELLIM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4, KÁRVESZÉ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5, KIVÁRÁS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6, KÁRFIZETÉSI IDŐ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7, BIZTOSÍTÁSI DÍ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0D6-EE48-451F-A4D8-3C632B69C2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0120" y="625320"/>
            <a:ext cx="8102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BIZTOSÍTÁSI DÍJ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7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Times New Roman"/>
              </a:rPr>
              <a:t>A BIZTOSÍTÁSI FEDEZET ÁRA,  A VESZÉLYKÖZÖSSÉG TAGJAINAK  A BIZTOSITÁSI ALAP KÉPZÉSÉHEZ TÖRTÉNŐ HOZZÁJÁRULÁS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A  DÍJ  NAGYSÁGÁT  MEGHATÁROZZÁK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ÁRFIZETÉSI HÁNYAD (ÖNRÉSZESEDÉ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IPARÁ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SZERZŐDÉSBEN ALKALMAZOTT FIZETÉSI   FELTÉT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FIZETÉSI TAPASZTALAT AZ ADÓSSAL SZEMB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KÁRTAPASZTAL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ADÓS ORSZÁG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ADÓS MINŐSÍTÉ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3333cc"/>
                </a:solidFill>
                <a:latin typeface="Times New Roman"/>
              </a:rPr>
              <a:t>*  A BIZTOSÍTANDÓ  FORGALOM NAGYSÁG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43E-3495-43F3-B807-FED8E1F02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5480" y="901800"/>
            <a:ext cx="8096400" cy="4927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Times New Roman"/>
              </a:rPr>
              <a:t>KÁRFIZETÉS</a:t>
            </a:r>
            <a:endParaRPr b="1" lang="en-US" sz="42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16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DEVIZAALAPÚ, FORINTBAN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ÁRFOLYAMOK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KÖVETELÉS BEHAJTÁ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* KÁRBEHAJTÁS</a:t>
            </a:r>
            <a:endParaRPr b="1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HIB RT.  A KÁRT  A  KÖVETELÉSEK  ESEDÉKESSÉGÉNEK  NAPJÁN ÉRVÉNYES, A  BIZTOSÍTOTT  BANKJA  ÁLTAL  ADOTT  DEVIZÁRA JEGYZETT  VÉTELI  ÁRFOLYAMON  FIZETI  MEG.</a:t>
            </a:r>
            <a:endParaRPr b="1" lang="en-US" sz="18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C3C-CAA8-4EC0-89CD-B271B0EFC2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71440" y="614520"/>
            <a:ext cx="190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4720" y="704880"/>
            <a:ext cx="819792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marL="357120" indent="-357120" algn="ctr">
              <a:spcBef>
                <a:spcPts val="726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EGYEDI ÜGYLETEK BIZTOSÍTÁS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ÁLTALÁBAN NAGYOBB ÉRTÉKŰ, KÖZÉP/HOSSZÚ LEJÁRATÚ EX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624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BEFOGADÁSI FELTÉTELEK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EXPORTHITEL NYÚJTÁS = OECD KONSZENZ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IMPORTHÁNYA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KÖZVETLEN : MAX. 10 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KÖZVETETT: MAX. 40 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* ELFOGADHATÓ ORSZÁGKOCKÁZ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* EGYEDI ÜGYLETELBÍRÁLÁ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spcBef>
                <a:spcPts val="57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48E-CD29-47AF-B0EA-CE24923BBD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4240" y="642960"/>
            <a:ext cx="8096400" cy="5229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57120" indent="0" algn="ctr">
              <a:spcBef>
                <a:spcPts val="726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TELJES FORGALOM BIZTOSÍTÁSA</a:t>
            </a:r>
            <a:endParaRPr b="1" lang="en-US" sz="29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ÁLTALÁBAN GYORS FORGÁSI SEBESSÉGŰ FOGYASZTÁSI CIKKEK, RÖVID HITELFUTAMIDŐT IGÉNYLŐ ÁRUK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 algn="ctr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 BEFOGADÁSI FELTÉTELEK: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ELFOGADHATÓ ORSZÁG - ÉS 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VEVŐKOCKÁZAT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TELJES PORTFOLIÓ FELAJÁNLÁSA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** ÉRVÉNYES HITELLIMIT, STB...</a:t>
            </a: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  <a:p>
            <a:pPr marL="357120" indent="0">
              <a:spcBef>
                <a:spcPts val="624"/>
              </a:spcBef>
              <a:buNone/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1" lang="en-US" sz="25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B12-DC7F-49DF-B62F-74DD0D9C7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07:37:56Z</dcterms:created>
  <dc:creator>Magyar Exporthitel Biztosító</dc:creator>
  <dc:description/>
  <dc:language>en-US</dc:language>
  <cp:lastModifiedBy>Juhász Mihály</cp:lastModifiedBy>
  <cp:lastPrinted>1999-04-16T09:38:06Z</cp:lastPrinted>
  <dcterms:modified xsi:type="dcterms:W3CDTF">2003-04-30T07:04:43Z</dcterms:modified>
  <cp:revision>83</cp:revision>
  <dc:subject/>
  <dc:title>Nincs diacím</dc:title>
</cp:coreProperties>
</file>